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7.xml.rels" ContentType="application/vnd.openxmlformats-package.relationships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4.wmf" ContentType="image/x-wmf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2.png" ContentType="image/png"/>
  <Override PartName="/ppt/media/image7.wmf" ContentType="image/x-wmf"/>
  <Override PartName="/ppt/media/image9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</p:sldIdLst>
  <p:sldSz cx="9144000" cy="6858000"/>
  <p:notesSz cx="90281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0" y="0"/>
            <a:ext cx="90288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917880" cy="333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dt" idx="4"/>
          </p:nvPr>
        </p:nvSpPr>
        <p:spPr>
          <a:xfrm>
            <a:off x="5109840" y="0"/>
            <a:ext cx="3917880" cy="333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ftr" idx="5"/>
          </p:nvPr>
        </p:nvSpPr>
        <p:spPr>
          <a:xfrm>
            <a:off x="-360" y="6524640"/>
            <a:ext cx="3917880" cy="333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sldNum" idx="6"/>
          </p:nvPr>
        </p:nvSpPr>
        <p:spPr>
          <a:xfrm>
            <a:off x="5109840" y="6524640"/>
            <a:ext cx="3917880" cy="333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  <a:defRPr b="0" i="1" lang="es-ES" sz="1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fld id="{ADB7259D-6B9D-4707-AA83-36A0D61C9BCF}" type="slidenum">
              <a:rPr b="0" i="1" lang="es-ES" sz="1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Img"/>
          </p:nvPr>
        </p:nvSpPr>
        <p:spPr>
          <a:xfrm>
            <a:off x="2846520" y="523800"/>
            <a:ext cx="3333600" cy="250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4419"/>
                </a:solidFill>
                <a:latin typeface="Optima"/>
              </a:rPr>
              <a:t>Click to move the slide</a:t>
            </a:r>
            <a:endParaRPr b="1" lang="en-US" sz="3200" spc="-1" strike="noStrike">
              <a:solidFill>
                <a:srgbClr val="6b4419"/>
              </a:solidFill>
              <a:latin typeface="Optima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 type="body"/>
          </p:nvPr>
        </p:nvSpPr>
        <p:spPr>
          <a:xfrm>
            <a:off x="1189080" y="3190680"/>
            <a:ext cx="6649920" cy="30956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5110200" y="6524640"/>
            <a:ext cx="39178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fld id="{88758183-7C71-4D53-887D-91A9F3BB1E16}" type="slidenum"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2846520" y="523800"/>
            <a:ext cx="3333600" cy="250056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1189080" y="3190680"/>
            <a:ext cx="664992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F582-4786-41CF-B425-26AB47D33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893E-F72B-4B36-882E-E5A877870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F9A0-0F65-4165-83FC-4606F4445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3498-E8D0-42C6-8356-3249AFC5F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2F16-CE5E-4D0E-967E-E823850B0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8C6C-6E9E-4158-BB84-6C869C3E3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9F92-CFE7-46C8-9D47-367F709B3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31AB-FAF0-4809-BC03-0BCBEAA4A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D0FC-09C2-445F-A6CE-A42B399E2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A730-DB05-437B-8B17-5A4ED506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0370-9421-4BF7-8E40-F26C23DA7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2846-41AB-45AE-BFC8-6B6960777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49F3C-13D4-46A2-828C-F6D723959CB1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56"/>
          <p:cNvGrpSpPr/>
          <p:nvPr/>
        </p:nvGrpSpPr>
        <p:grpSpPr>
          <a:xfrm>
            <a:off x="-5040" y="0"/>
            <a:ext cx="9149040" cy="6858000"/>
            <a:chOff x="-5040" y="0"/>
            <a:chExt cx="9149040" cy="6858000"/>
          </a:xfrm>
        </p:grpSpPr>
        <p:pic>
          <p:nvPicPr>
            <p:cNvPr id="42" name="Picture 3" descr=""/>
            <p:cNvPicPr/>
            <p:nvPr/>
          </p:nvPicPr>
          <p:blipFill>
            <a:blip r:embed="rId2">
              <a:lum bright="70000" contrast="-70000"/>
            </a:blip>
            <a:srcRect l="0" t="10583" r="0" b="10730"/>
            <a:stretch/>
          </p:blipFill>
          <p:spPr>
            <a:xfrm>
              <a:off x="428760" y="0"/>
              <a:ext cx="8715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Freeform 9"/>
            <p:cNvSpPr/>
            <p:nvPr/>
          </p:nvSpPr>
          <p:spPr>
            <a:xfrm>
              <a:off x="0" y="0"/>
              <a:ext cx="749160" cy="6858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Freeform 10"/>
            <p:cNvSpPr/>
            <p:nvPr/>
          </p:nvSpPr>
          <p:spPr>
            <a:xfrm>
              <a:off x="0" y="0"/>
              <a:ext cx="749160" cy="6858000"/>
            </a:xfrm>
            <a:prstGeom prst="pie">
              <a:avLst/>
            </a:prstGeom>
            <a:solidFill>
              <a:srgbClr val="6b44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Group 11"/>
            <p:cNvGrpSpPr/>
            <p:nvPr/>
          </p:nvGrpSpPr>
          <p:grpSpPr>
            <a:xfrm>
              <a:off x="-5040" y="6840"/>
              <a:ext cx="454680" cy="6813720"/>
              <a:chOff x="-5040" y="6840"/>
              <a:chExt cx="454680" cy="6813720"/>
            </a:xfrm>
          </p:grpSpPr>
          <p:grpSp>
            <p:nvGrpSpPr>
              <p:cNvPr id="46" name="Group 12"/>
              <p:cNvGrpSpPr/>
              <p:nvPr/>
            </p:nvGrpSpPr>
            <p:grpSpPr>
              <a:xfrm>
                <a:off x="-5040" y="6840"/>
                <a:ext cx="454680" cy="3398760"/>
                <a:chOff x="-5040" y="6840"/>
                <a:chExt cx="454680" cy="3398760"/>
              </a:xfrm>
            </p:grpSpPr>
            <p:grpSp>
              <p:nvGrpSpPr>
                <p:cNvPr id="47" name="Group 13"/>
                <p:cNvGrpSpPr/>
                <p:nvPr/>
              </p:nvGrpSpPr>
              <p:grpSpPr>
                <a:xfrm>
                  <a:off x="-2520" y="1978920"/>
                  <a:ext cx="448560" cy="440280"/>
                  <a:chOff x="-2520" y="1978920"/>
                  <a:chExt cx="448560" cy="440280"/>
                </a:xfrm>
              </p:grpSpPr>
              <p:grpSp>
                <p:nvGrpSpPr>
                  <p:cNvPr id="48" name="Group 14"/>
                  <p:cNvGrpSpPr/>
                  <p:nvPr/>
                </p:nvGrpSpPr>
                <p:grpSpPr>
                  <a:xfrm>
                    <a:off x="237240" y="2108160"/>
                    <a:ext cx="208800" cy="207360"/>
                    <a:chOff x="237240" y="2108160"/>
                    <a:chExt cx="208800" cy="207360"/>
                  </a:xfrm>
                </p:grpSpPr>
                <p:sp>
                  <p:nvSpPr>
                    <p:cNvPr id="49" name="Rectangle 15"/>
                    <p:cNvSpPr/>
                    <p:nvPr/>
                  </p:nvSpPr>
                  <p:spPr>
                    <a:xfrm rot="19039200">
                      <a:off x="224640" y="2162160"/>
                      <a:ext cx="172080" cy="3024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560" bIns="-16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" name="Rectangle 16"/>
                    <p:cNvSpPr/>
                    <p:nvPr/>
                  </p:nvSpPr>
                  <p:spPr>
                    <a:xfrm rot="19039200">
                      <a:off x="255960" y="2197440"/>
                      <a:ext cx="172080" cy="3024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560" bIns="-16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" name="Rectangle 17"/>
                    <p:cNvSpPr/>
                    <p:nvPr/>
                  </p:nvSpPr>
                  <p:spPr>
                    <a:xfrm rot="19039200">
                      <a:off x="286560" y="2230560"/>
                      <a:ext cx="172080" cy="3024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560" bIns="-16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2" name="Group 18"/>
                  <p:cNvGrpSpPr/>
                  <p:nvPr/>
                </p:nvGrpSpPr>
                <p:grpSpPr>
                  <a:xfrm>
                    <a:off x="-2520" y="2084040"/>
                    <a:ext cx="209160" cy="207360"/>
                    <a:chOff x="-2520" y="2084040"/>
                    <a:chExt cx="209160" cy="207360"/>
                  </a:xfrm>
                </p:grpSpPr>
                <p:sp>
                  <p:nvSpPr>
                    <p:cNvPr id="53" name="Rectangle 19"/>
                    <p:cNvSpPr/>
                    <p:nvPr/>
                  </p:nvSpPr>
                  <p:spPr>
                    <a:xfrm rot="19039200">
                      <a:off x="-15120" y="2138040"/>
                      <a:ext cx="172080" cy="2988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" name="Rectangle 20"/>
                    <p:cNvSpPr/>
                    <p:nvPr/>
                  </p:nvSpPr>
                  <p:spPr>
                    <a:xfrm rot="19039200">
                      <a:off x="15840" y="2172600"/>
                      <a:ext cx="172080" cy="2988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" name="Rectangle 21"/>
                    <p:cNvSpPr/>
                    <p:nvPr/>
                  </p:nvSpPr>
                  <p:spPr>
                    <a:xfrm rot="19039200">
                      <a:off x="46800" y="2206800"/>
                      <a:ext cx="172080" cy="2988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6" name="Group 22"/>
                  <p:cNvGrpSpPr/>
                  <p:nvPr/>
                </p:nvGrpSpPr>
                <p:grpSpPr>
                  <a:xfrm>
                    <a:off x="131040" y="1978920"/>
                    <a:ext cx="207720" cy="205920"/>
                    <a:chOff x="131040" y="1978920"/>
                    <a:chExt cx="207720" cy="205920"/>
                  </a:xfrm>
                </p:grpSpPr>
                <p:sp>
                  <p:nvSpPr>
                    <p:cNvPr id="57" name="Rectangle 23"/>
                    <p:cNvSpPr/>
                    <p:nvPr/>
                  </p:nvSpPr>
                  <p:spPr>
                    <a:xfrm rot="13639200">
                      <a:off x="115560" y="2098080"/>
                      <a:ext cx="165960" cy="3060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200" bIns="-16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" name="Rectangle 24"/>
                    <p:cNvSpPr/>
                    <p:nvPr/>
                  </p:nvSpPr>
                  <p:spPr>
                    <a:xfrm rot="13639200">
                      <a:off x="152280" y="2067480"/>
                      <a:ext cx="165960" cy="3060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200" bIns="-16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" name="Rectangle 25"/>
                    <p:cNvSpPr/>
                    <p:nvPr/>
                  </p:nvSpPr>
                  <p:spPr>
                    <a:xfrm rot="13639200">
                      <a:off x="186840" y="2035440"/>
                      <a:ext cx="167760" cy="3060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200" bIns="-16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0" name="Group 26"/>
                  <p:cNvGrpSpPr/>
                  <p:nvPr/>
                </p:nvGrpSpPr>
                <p:grpSpPr>
                  <a:xfrm>
                    <a:off x="107640" y="2213640"/>
                    <a:ext cx="207720" cy="205560"/>
                    <a:chOff x="107640" y="2213640"/>
                    <a:chExt cx="207720" cy="205560"/>
                  </a:xfrm>
                </p:grpSpPr>
                <p:sp>
                  <p:nvSpPr>
                    <p:cNvPr id="61" name="Rectangle 27"/>
                    <p:cNvSpPr/>
                    <p:nvPr/>
                  </p:nvSpPr>
                  <p:spPr>
                    <a:xfrm rot="13639200">
                      <a:off x="91800" y="2332440"/>
                      <a:ext cx="166320" cy="3024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560" bIns="-16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" name="Rectangle 28"/>
                    <p:cNvSpPr/>
                    <p:nvPr/>
                  </p:nvSpPr>
                  <p:spPr>
                    <a:xfrm rot="13639200">
                      <a:off x="128880" y="2301840"/>
                      <a:ext cx="166320" cy="3024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560" bIns="-16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Rectangle 29"/>
                    <p:cNvSpPr/>
                    <p:nvPr/>
                  </p:nvSpPr>
                  <p:spPr>
                    <a:xfrm rot="13639200">
                      <a:off x="163080" y="2270160"/>
                      <a:ext cx="168120" cy="3024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560" bIns="-16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64" name="Group 30"/>
                <p:cNvGrpSpPr/>
                <p:nvPr/>
              </p:nvGrpSpPr>
              <p:grpSpPr>
                <a:xfrm>
                  <a:off x="720" y="1483200"/>
                  <a:ext cx="448920" cy="436320"/>
                  <a:chOff x="720" y="1483200"/>
                  <a:chExt cx="448920" cy="436320"/>
                </a:xfrm>
              </p:grpSpPr>
              <p:grpSp>
                <p:nvGrpSpPr>
                  <p:cNvPr id="65" name="Group 31"/>
                  <p:cNvGrpSpPr/>
                  <p:nvPr/>
                </p:nvGrpSpPr>
                <p:grpSpPr>
                  <a:xfrm>
                    <a:off x="240480" y="1609560"/>
                    <a:ext cx="209160" cy="207000"/>
                    <a:chOff x="240480" y="1609560"/>
                    <a:chExt cx="209160" cy="207000"/>
                  </a:xfrm>
                </p:grpSpPr>
                <p:sp>
                  <p:nvSpPr>
                    <p:cNvPr id="66" name="Rectangle 32"/>
                    <p:cNvSpPr/>
                    <p:nvPr/>
                  </p:nvSpPr>
                  <p:spPr>
                    <a:xfrm rot="19039200">
                      <a:off x="227520" y="1663920"/>
                      <a:ext cx="172800" cy="2988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" name="Rectangle 33"/>
                    <p:cNvSpPr/>
                    <p:nvPr/>
                  </p:nvSpPr>
                  <p:spPr>
                    <a:xfrm rot="19039200">
                      <a:off x="259200" y="1698840"/>
                      <a:ext cx="172800" cy="2988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" name="Rectangle 34"/>
                    <p:cNvSpPr/>
                    <p:nvPr/>
                  </p:nvSpPr>
                  <p:spPr>
                    <a:xfrm rot="19039200">
                      <a:off x="289440" y="1731960"/>
                      <a:ext cx="172800" cy="2988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9" name="Group 35"/>
                  <p:cNvGrpSpPr/>
                  <p:nvPr/>
                </p:nvGrpSpPr>
                <p:grpSpPr>
                  <a:xfrm>
                    <a:off x="720" y="1585800"/>
                    <a:ext cx="210600" cy="208800"/>
                    <a:chOff x="720" y="1585800"/>
                    <a:chExt cx="210600" cy="208800"/>
                  </a:xfrm>
                </p:grpSpPr>
                <p:sp>
                  <p:nvSpPr>
                    <p:cNvPr id="70" name="Rectangle 36"/>
                    <p:cNvSpPr/>
                    <p:nvPr/>
                  </p:nvSpPr>
                  <p:spPr>
                    <a:xfrm rot="19039200">
                      <a:off x="-11880" y="1640160"/>
                      <a:ext cx="172800" cy="2988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" name="Rectangle 37"/>
                    <p:cNvSpPr/>
                    <p:nvPr/>
                  </p:nvSpPr>
                  <p:spPr>
                    <a:xfrm rot="19039200">
                      <a:off x="19440" y="1674360"/>
                      <a:ext cx="172800" cy="3168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" name="Rectangle 38"/>
                    <p:cNvSpPr/>
                    <p:nvPr/>
                  </p:nvSpPr>
                  <p:spPr>
                    <a:xfrm rot="19039200">
                      <a:off x="51120" y="1710000"/>
                      <a:ext cx="172800" cy="2988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3" name="Group 39"/>
                  <p:cNvGrpSpPr/>
                  <p:nvPr/>
                </p:nvGrpSpPr>
                <p:grpSpPr>
                  <a:xfrm>
                    <a:off x="134640" y="1483200"/>
                    <a:ext cx="207360" cy="205200"/>
                    <a:chOff x="134640" y="1483200"/>
                    <a:chExt cx="207360" cy="205200"/>
                  </a:xfrm>
                </p:grpSpPr>
                <p:sp>
                  <p:nvSpPr>
                    <p:cNvPr id="74" name="Rectangle 40"/>
                    <p:cNvSpPr/>
                    <p:nvPr/>
                  </p:nvSpPr>
                  <p:spPr>
                    <a:xfrm rot="13639200">
                      <a:off x="119160" y="1601640"/>
                      <a:ext cx="165600" cy="3060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200" bIns="-16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" name="Rectangle 41"/>
                    <p:cNvSpPr/>
                    <p:nvPr/>
                  </p:nvSpPr>
                  <p:spPr>
                    <a:xfrm rot="13639200">
                      <a:off x="156600" y="1571040"/>
                      <a:ext cx="165240" cy="3060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200" bIns="-16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" name="Rectangle 42"/>
                    <p:cNvSpPr/>
                    <p:nvPr/>
                  </p:nvSpPr>
                  <p:spPr>
                    <a:xfrm rot="13639200">
                      <a:off x="190440" y="1539720"/>
                      <a:ext cx="167040" cy="3060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200" bIns="-16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7" name="Group 43"/>
                  <p:cNvGrpSpPr/>
                  <p:nvPr/>
                </p:nvGrpSpPr>
                <p:grpSpPr>
                  <a:xfrm>
                    <a:off x="108720" y="1713960"/>
                    <a:ext cx="207720" cy="205560"/>
                    <a:chOff x="108720" y="1713960"/>
                    <a:chExt cx="207720" cy="205560"/>
                  </a:xfrm>
                </p:grpSpPr>
                <p:sp>
                  <p:nvSpPr>
                    <p:cNvPr id="78" name="Rectangle 44"/>
                    <p:cNvSpPr/>
                    <p:nvPr/>
                  </p:nvSpPr>
                  <p:spPr>
                    <a:xfrm rot="13639200">
                      <a:off x="93240" y="1832760"/>
                      <a:ext cx="165600" cy="3060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200" bIns="-16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" name="Rectangle 45"/>
                    <p:cNvSpPr/>
                    <p:nvPr/>
                  </p:nvSpPr>
                  <p:spPr>
                    <a:xfrm rot="13639200">
                      <a:off x="130320" y="1802160"/>
                      <a:ext cx="165600" cy="3060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200" bIns="-16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" name="Rectangle 46"/>
                    <p:cNvSpPr/>
                    <p:nvPr/>
                  </p:nvSpPr>
                  <p:spPr>
                    <a:xfrm rot="13639200">
                      <a:off x="164880" y="1770480"/>
                      <a:ext cx="167040" cy="3060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200" bIns="-16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81" name="Group 47"/>
                <p:cNvGrpSpPr/>
                <p:nvPr/>
              </p:nvGrpSpPr>
              <p:grpSpPr>
                <a:xfrm>
                  <a:off x="-2520" y="994680"/>
                  <a:ext cx="447840" cy="436320"/>
                  <a:chOff x="-2520" y="994680"/>
                  <a:chExt cx="447840" cy="436320"/>
                </a:xfrm>
              </p:grpSpPr>
              <p:grpSp>
                <p:nvGrpSpPr>
                  <p:cNvPr id="82" name="Group 48"/>
                  <p:cNvGrpSpPr/>
                  <p:nvPr/>
                </p:nvGrpSpPr>
                <p:grpSpPr>
                  <a:xfrm>
                    <a:off x="236520" y="1122840"/>
                    <a:ext cx="208800" cy="206640"/>
                    <a:chOff x="236520" y="1122840"/>
                    <a:chExt cx="208800" cy="206640"/>
                  </a:xfrm>
                </p:grpSpPr>
                <p:sp>
                  <p:nvSpPr>
                    <p:cNvPr id="83" name="Rectangle 49"/>
                    <p:cNvSpPr/>
                    <p:nvPr/>
                  </p:nvSpPr>
                  <p:spPr>
                    <a:xfrm rot="19039200">
                      <a:off x="223920" y="1176840"/>
                      <a:ext cx="172080" cy="3060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200" bIns="-16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" name="Rectangle 50"/>
                    <p:cNvSpPr/>
                    <p:nvPr/>
                  </p:nvSpPr>
                  <p:spPr>
                    <a:xfrm rot="19039200">
                      <a:off x="254160" y="1210680"/>
                      <a:ext cx="172080" cy="3060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200" bIns="-16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" name="Rectangle 51"/>
                    <p:cNvSpPr/>
                    <p:nvPr/>
                  </p:nvSpPr>
                  <p:spPr>
                    <a:xfrm rot="19039200">
                      <a:off x="285480" y="1244520"/>
                      <a:ext cx="172080" cy="3060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200" bIns="-16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6" name="Group 52"/>
                  <p:cNvGrpSpPr/>
                  <p:nvPr/>
                </p:nvGrpSpPr>
                <p:grpSpPr>
                  <a:xfrm>
                    <a:off x="-2520" y="1099440"/>
                    <a:ext cx="208800" cy="206640"/>
                    <a:chOff x="-2520" y="1099440"/>
                    <a:chExt cx="208800" cy="206640"/>
                  </a:xfrm>
                </p:grpSpPr>
                <p:sp>
                  <p:nvSpPr>
                    <p:cNvPr id="87" name="Rectangle 53"/>
                    <p:cNvSpPr/>
                    <p:nvPr/>
                  </p:nvSpPr>
                  <p:spPr>
                    <a:xfrm rot="19039200">
                      <a:off x="-15120" y="1153440"/>
                      <a:ext cx="172080" cy="2988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" name="Rectangle 54"/>
                    <p:cNvSpPr/>
                    <p:nvPr/>
                  </p:nvSpPr>
                  <p:spPr>
                    <a:xfrm rot="19039200">
                      <a:off x="16200" y="1188000"/>
                      <a:ext cx="172080" cy="2988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" name="Rectangle 55"/>
                    <p:cNvSpPr/>
                    <p:nvPr/>
                  </p:nvSpPr>
                  <p:spPr>
                    <a:xfrm rot="19039200">
                      <a:off x="46440" y="1221480"/>
                      <a:ext cx="172080" cy="2988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0" name="Group 56"/>
                  <p:cNvGrpSpPr/>
                  <p:nvPr/>
                </p:nvGrpSpPr>
                <p:grpSpPr>
                  <a:xfrm>
                    <a:off x="131400" y="994680"/>
                    <a:ext cx="207000" cy="205200"/>
                    <a:chOff x="131400" y="994680"/>
                    <a:chExt cx="207000" cy="205200"/>
                  </a:xfrm>
                </p:grpSpPr>
                <p:sp>
                  <p:nvSpPr>
                    <p:cNvPr id="91" name="Rectangle 57"/>
                    <p:cNvSpPr/>
                    <p:nvPr/>
                  </p:nvSpPr>
                  <p:spPr>
                    <a:xfrm rot="13639200">
                      <a:off x="115920" y="1113120"/>
                      <a:ext cx="165600" cy="3060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200" bIns="-16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" name="Rectangle 58"/>
                    <p:cNvSpPr/>
                    <p:nvPr/>
                  </p:nvSpPr>
                  <p:spPr>
                    <a:xfrm rot="13639200">
                      <a:off x="152640" y="1082520"/>
                      <a:ext cx="165600" cy="3060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200" bIns="-16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" name="Rectangle 59"/>
                    <p:cNvSpPr/>
                    <p:nvPr/>
                  </p:nvSpPr>
                  <p:spPr>
                    <a:xfrm rot="13639200">
                      <a:off x="186840" y="1051200"/>
                      <a:ext cx="167040" cy="3060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200" bIns="-16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4" name="Group 60"/>
                  <p:cNvGrpSpPr/>
                  <p:nvPr/>
                </p:nvGrpSpPr>
                <p:grpSpPr>
                  <a:xfrm>
                    <a:off x="105840" y="1225800"/>
                    <a:ext cx="207360" cy="205200"/>
                    <a:chOff x="105840" y="1225800"/>
                    <a:chExt cx="207360" cy="205200"/>
                  </a:xfrm>
                </p:grpSpPr>
                <p:sp>
                  <p:nvSpPr>
                    <p:cNvPr id="95" name="Rectangle 61"/>
                    <p:cNvSpPr/>
                    <p:nvPr/>
                  </p:nvSpPr>
                  <p:spPr>
                    <a:xfrm rot="13639200">
                      <a:off x="90000" y="1344960"/>
                      <a:ext cx="165240" cy="2988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" name="Rectangle 62"/>
                    <p:cNvSpPr/>
                    <p:nvPr/>
                  </p:nvSpPr>
                  <p:spPr>
                    <a:xfrm rot="13639200">
                      <a:off x="127080" y="1314720"/>
                      <a:ext cx="165240" cy="3132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" name="Rectangle 63"/>
                    <p:cNvSpPr/>
                    <p:nvPr/>
                  </p:nvSpPr>
                  <p:spPr>
                    <a:xfrm rot="13639200">
                      <a:off x="162360" y="1282320"/>
                      <a:ext cx="166680" cy="2988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98" name="Group 64"/>
                <p:cNvGrpSpPr/>
                <p:nvPr/>
              </p:nvGrpSpPr>
              <p:grpSpPr>
                <a:xfrm>
                  <a:off x="-3240" y="500760"/>
                  <a:ext cx="448200" cy="437040"/>
                  <a:chOff x="-3240" y="500760"/>
                  <a:chExt cx="448200" cy="437040"/>
                </a:xfrm>
              </p:grpSpPr>
              <p:grpSp>
                <p:nvGrpSpPr>
                  <p:cNvPr id="99" name="Group 65"/>
                  <p:cNvGrpSpPr/>
                  <p:nvPr/>
                </p:nvGrpSpPr>
                <p:grpSpPr>
                  <a:xfrm>
                    <a:off x="235800" y="627840"/>
                    <a:ext cx="209160" cy="207000"/>
                    <a:chOff x="235800" y="627840"/>
                    <a:chExt cx="209160" cy="207000"/>
                  </a:xfrm>
                </p:grpSpPr>
                <p:sp>
                  <p:nvSpPr>
                    <p:cNvPr id="100" name="Rectangle 66"/>
                    <p:cNvSpPr/>
                    <p:nvPr/>
                  </p:nvSpPr>
                  <p:spPr>
                    <a:xfrm rot="19039200">
                      <a:off x="222840" y="681840"/>
                      <a:ext cx="172080" cy="2988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" name="Rectangle 67"/>
                    <p:cNvSpPr/>
                    <p:nvPr/>
                  </p:nvSpPr>
                  <p:spPr>
                    <a:xfrm rot="19039200">
                      <a:off x="254520" y="717120"/>
                      <a:ext cx="172080" cy="2988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" name="Rectangle 68"/>
                    <p:cNvSpPr/>
                    <p:nvPr/>
                  </p:nvSpPr>
                  <p:spPr>
                    <a:xfrm rot="19039200">
                      <a:off x="285120" y="750240"/>
                      <a:ext cx="172080" cy="2988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3" name="Group 69"/>
                  <p:cNvGrpSpPr/>
                  <p:nvPr/>
                </p:nvGrpSpPr>
                <p:grpSpPr>
                  <a:xfrm>
                    <a:off x="-3240" y="604080"/>
                    <a:ext cx="210240" cy="208080"/>
                    <a:chOff x="-3240" y="604080"/>
                    <a:chExt cx="210240" cy="208080"/>
                  </a:xfrm>
                </p:grpSpPr>
                <p:sp>
                  <p:nvSpPr>
                    <p:cNvPr id="104" name="Rectangle 70"/>
                    <p:cNvSpPr/>
                    <p:nvPr/>
                  </p:nvSpPr>
                  <p:spPr>
                    <a:xfrm rot="19039200">
                      <a:off x="-15840" y="658080"/>
                      <a:ext cx="171720" cy="2988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" name="Rectangle 71"/>
                    <p:cNvSpPr/>
                    <p:nvPr/>
                  </p:nvSpPr>
                  <p:spPr>
                    <a:xfrm rot="19039200">
                      <a:off x="15840" y="692640"/>
                      <a:ext cx="172080" cy="3168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" name="Rectangle 72"/>
                    <p:cNvSpPr/>
                    <p:nvPr/>
                  </p:nvSpPr>
                  <p:spPr>
                    <a:xfrm rot="19039200">
                      <a:off x="47520" y="727920"/>
                      <a:ext cx="171720" cy="2988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7" name="Group 73"/>
                  <p:cNvGrpSpPr/>
                  <p:nvPr/>
                </p:nvGrpSpPr>
                <p:grpSpPr>
                  <a:xfrm>
                    <a:off x="130320" y="500760"/>
                    <a:ext cx="207000" cy="204840"/>
                    <a:chOff x="130320" y="500760"/>
                    <a:chExt cx="207000" cy="204840"/>
                  </a:xfrm>
                </p:grpSpPr>
                <p:sp>
                  <p:nvSpPr>
                    <p:cNvPr id="108" name="Rectangle 74"/>
                    <p:cNvSpPr/>
                    <p:nvPr/>
                  </p:nvSpPr>
                  <p:spPr>
                    <a:xfrm rot="13639200">
                      <a:off x="114480" y="619200"/>
                      <a:ext cx="165600" cy="3024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560" bIns="-16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" name="Rectangle 75"/>
                    <p:cNvSpPr/>
                    <p:nvPr/>
                  </p:nvSpPr>
                  <p:spPr>
                    <a:xfrm rot="13639200">
                      <a:off x="151200" y="588600"/>
                      <a:ext cx="165600" cy="3024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560" bIns="-16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" name="Rectangle 76"/>
                    <p:cNvSpPr/>
                    <p:nvPr/>
                  </p:nvSpPr>
                  <p:spPr>
                    <a:xfrm rot="13639200">
                      <a:off x="185760" y="556920"/>
                      <a:ext cx="167040" cy="3024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560" bIns="-16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1" name="Group 77"/>
                  <p:cNvGrpSpPr/>
                  <p:nvPr/>
                </p:nvGrpSpPr>
                <p:grpSpPr>
                  <a:xfrm>
                    <a:off x="105120" y="732600"/>
                    <a:ext cx="207360" cy="205200"/>
                    <a:chOff x="105120" y="732600"/>
                    <a:chExt cx="207360" cy="205200"/>
                  </a:xfrm>
                </p:grpSpPr>
                <p:sp>
                  <p:nvSpPr>
                    <p:cNvPr id="112" name="Rectangle 78"/>
                    <p:cNvSpPr/>
                    <p:nvPr/>
                  </p:nvSpPr>
                  <p:spPr>
                    <a:xfrm rot="13639200">
                      <a:off x="89280" y="851400"/>
                      <a:ext cx="165600" cy="3024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560" bIns="-16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" name="Rectangle 79"/>
                    <p:cNvSpPr/>
                    <p:nvPr/>
                  </p:nvSpPr>
                  <p:spPr>
                    <a:xfrm rot="13639200">
                      <a:off x="126000" y="820800"/>
                      <a:ext cx="165600" cy="3024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560" bIns="-16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" name="Rectangle 80"/>
                    <p:cNvSpPr/>
                    <p:nvPr/>
                  </p:nvSpPr>
                  <p:spPr>
                    <a:xfrm rot="13639200">
                      <a:off x="160920" y="788760"/>
                      <a:ext cx="167040" cy="3024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560" bIns="-16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15" name="Group 81"/>
                <p:cNvGrpSpPr/>
                <p:nvPr/>
              </p:nvGrpSpPr>
              <p:grpSpPr>
                <a:xfrm>
                  <a:off x="-1800" y="6840"/>
                  <a:ext cx="448200" cy="438120"/>
                  <a:chOff x="-1800" y="6840"/>
                  <a:chExt cx="448200" cy="438120"/>
                </a:xfrm>
              </p:grpSpPr>
              <p:grpSp>
                <p:nvGrpSpPr>
                  <p:cNvPr id="116" name="Group 82"/>
                  <p:cNvGrpSpPr/>
                  <p:nvPr/>
                </p:nvGrpSpPr>
                <p:grpSpPr>
                  <a:xfrm>
                    <a:off x="237600" y="136800"/>
                    <a:ext cx="208800" cy="206640"/>
                    <a:chOff x="237600" y="136800"/>
                    <a:chExt cx="208800" cy="206640"/>
                  </a:xfrm>
                </p:grpSpPr>
                <p:sp>
                  <p:nvSpPr>
                    <p:cNvPr id="117" name="Rectangle 83"/>
                    <p:cNvSpPr/>
                    <p:nvPr/>
                  </p:nvSpPr>
                  <p:spPr>
                    <a:xfrm rot="19039200">
                      <a:off x="224640" y="190800"/>
                      <a:ext cx="172080" cy="2988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" name="Rectangle 84"/>
                    <p:cNvSpPr/>
                    <p:nvPr/>
                  </p:nvSpPr>
                  <p:spPr>
                    <a:xfrm rot="19039200">
                      <a:off x="256680" y="225720"/>
                      <a:ext cx="172080" cy="2988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" name="Rectangle 85"/>
                    <p:cNvSpPr/>
                    <p:nvPr/>
                  </p:nvSpPr>
                  <p:spPr>
                    <a:xfrm rot="19039200">
                      <a:off x="286560" y="258840"/>
                      <a:ext cx="172080" cy="2988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0" name="Group 86"/>
                  <p:cNvGrpSpPr/>
                  <p:nvPr/>
                </p:nvGrpSpPr>
                <p:grpSpPr>
                  <a:xfrm>
                    <a:off x="-1800" y="111240"/>
                    <a:ext cx="208800" cy="207000"/>
                    <a:chOff x="-1800" y="111240"/>
                    <a:chExt cx="208800" cy="207000"/>
                  </a:xfrm>
                </p:grpSpPr>
                <p:sp>
                  <p:nvSpPr>
                    <p:cNvPr id="121" name="Rectangle 87"/>
                    <p:cNvSpPr/>
                    <p:nvPr/>
                  </p:nvSpPr>
                  <p:spPr>
                    <a:xfrm rot="19039200">
                      <a:off x="-14040" y="165240"/>
                      <a:ext cx="172080" cy="3024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560" bIns="-16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" name="Rectangle 88"/>
                    <p:cNvSpPr/>
                    <p:nvPr/>
                  </p:nvSpPr>
                  <p:spPr>
                    <a:xfrm rot="19039200">
                      <a:off x="16920" y="200520"/>
                      <a:ext cx="172080" cy="2988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" name="Rectangle 89"/>
                    <p:cNvSpPr/>
                    <p:nvPr/>
                  </p:nvSpPr>
                  <p:spPr>
                    <a:xfrm rot="19039200">
                      <a:off x="47520" y="233280"/>
                      <a:ext cx="172080" cy="3024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560" bIns="-16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4" name="Group 90"/>
                  <p:cNvGrpSpPr/>
                  <p:nvPr/>
                </p:nvGrpSpPr>
                <p:grpSpPr>
                  <a:xfrm>
                    <a:off x="132120" y="6840"/>
                    <a:ext cx="207360" cy="205200"/>
                    <a:chOff x="132120" y="6840"/>
                    <a:chExt cx="207360" cy="205200"/>
                  </a:xfrm>
                </p:grpSpPr>
                <p:sp>
                  <p:nvSpPr>
                    <p:cNvPr id="125" name="Rectangle 91"/>
                    <p:cNvSpPr/>
                    <p:nvPr/>
                  </p:nvSpPr>
                  <p:spPr>
                    <a:xfrm rot="13639200">
                      <a:off x="116640" y="125280"/>
                      <a:ext cx="165600" cy="3060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200" bIns="-16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" name="Rectangle 92"/>
                    <p:cNvSpPr/>
                    <p:nvPr/>
                  </p:nvSpPr>
                  <p:spPr>
                    <a:xfrm rot="13639200">
                      <a:off x="153720" y="94680"/>
                      <a:ext cx="165600" cy="3060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200" bIns="-16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Rectangle 93"/>
                    <p:cNvSpPr/>
                    <p:nvPr/>
                  </p:nvSpPr>
                  <p:spPr>
                    <a:xfrm rot="13639200">
                      <a:off x="187920" y="63360"/>
                      <a:ext cx="167040" cy="3060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200" bIns="-16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8" name="Group 94"/>
                  <p:cNvGrpSpPr/>
                  <p:nvPr/>
                </p:nvGrpSpPr>
                <p:grpSpPr>
                  <a:xfrm>
                    <a:off x="106920" y="239760"/>
                    <a:ext cx="207000" cy="205200"/>
                    <a:chOff x="106920" y="239760"/>
                    <a:chExt cx="207000" cy="205200"/>
                  </a:xfrm>
                </p:grpSpPr>
                <p:sp>
                  <p:nvSpPr>
                    <p:cNvPr id="129" name="Rectangle 95"/>
                    <p:cNvSpPr/>
                    <p:nvPr/>
                  </p:nvSpPr>
                  <p:spPr>
                    <a:xfrm rot="13639200">
                      <a:off x="91440" y="358200"/>
                      <a:ext cx="165600" cy="3060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200" bIns="-16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" name="Rectangle 96"/>
                    <p:cNvSpPr/>
                    <p:nvPr/>
                  </p:nvSpPr>
                  <p:spPr>
                    <a:xfrm rot="13639200">
                      <a:off x="128160" y="327600"/>
                      <a:ext cx="165600" cy="3060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200" bIns="-16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" name="Rectangle 97"/>
                    <p:cNvSpPr/>
                    <p:nvPr/>
                  </p:nvSpPr>
                  <p:spPr>
                    <a:xfrm rot="13639200">
                      <a:off x="162360" y="296280"/>
                      <a:ext cx="167040" cy="3060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200" bIns="-16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32" name="Group 98"/>
                <p:cNvGrpSpPr/>
                <p:nvPr/>
              </p:nvGrpSpPr>
              <p:grpSpPr>
                <a:xfrm>
                  <a:off x="-5040" y="2474280"/>
                  <a:ext cx="449280" cy="434160"/>
                  <a:chOff x="-5040" y="2474280"/>
                  <a:chExt cx="449280" cy="434160"/>
                </a:xfrm>
              </p:grpSpPr>
              <p:grpSp>
                <p:nvGrpSpPr>
                  <p:cNvPr id="133" name="Group 99"/>
                  <p:cNvGrpSpPr/>
                  <p:nvPr/>
                </p:nvGrpSpPr>
                <p:grpSpPr>
                  <a:xfrm>
                    <a:off x="235440" y="2600280"/>
                    <a:ext cx="208800" cy="206640"/>
                    <a:chOff x="235440" y="2600280"/>
                    <a:chExt cx="208800" cy="206640"/>
                  </a:xfrm>
                </p:grpSpPr>
                <p:sp>
                  <p:nvSpPr>
                    <p:cNvPr id="134" name="Rectangle 100"/>
                    <p:cNvSpPr/>
                    <p:nvPr/>
                  </p:nvSpPr>
                  <p:spPr>
                    <a:xfrm rot="19039200">
                      <a:off x="222480" y="2654280"/>
                      <a:ext cx="172080" cy="2988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Rectangle 101"/>
                    <p:cNvSpPr/>
                    <p:nvPr/>
                  </p:nvSpPr>
                  <p:spPr>
                    <a:xfrm rot="19039200">
                      <a:off x="254160" y="2689560"/>
                      <a:ext cx="172080" cy="2988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Rectangle 102"/>
                    <p:cNvSpPr/>
                    <p:nvPr/>
                  </p:nvSpPr>
                  <p:spPr>
                    <a:xfrm rot="19039200">
                      <a:off x="284400" y="2722320"/>
                      <a:ext cx="172080" cy="2988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7" name="Group 103"/>
                  <p:cNvGrpSpPr/>
                  <p:nvPr/>
                </p:nvGrpSpPr>
                <p:grpSpPr>
                  <a:xfrm>
                    <a:off x="-5040" y="2575080"/>
                    <a:ext cx="212040" cy="208440"/>
                    <a:chOff x="-5040" y="2575080"/>
                    <a:chExt cx="212040" cy="208440"/>
                  </a:xfrm>
                </p:grpSpPr>
                <p:sp>
                  <p:nvSpPr>
                    <p:cNvPr id="138" name="Rectangle 104"/>
                    <p:cNvSpPr/>
                    <p:nvPr/>
                  </p:nvSpPr>
                  <p:spPr>
                    <a:xfrm rot="19039200">
                      <a:off x="-17640" y="2629080"/>
                      <a:ext cx="171720" cy="2952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" name="Rectangle 105"/>
                    <p:cNvSpPr/>
                    <p:nvPr/>
                  </p:nvSpPr>
                  <p:spPr>
                    <a:xfrm rot="19039200">
                      <a:off x="15120" y="2664720"/>
                      <a:ext cx="171720" cy="3132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Rectangle 106"/>
                    <p:cNvSpPr/>
                    <p:nvPr/>
                  </p:nvSpPr>
                  <p:spPr>
                    <a:xfrm rot="19039200">
                      <a:off x="47880" y="2699640"/>
                      <a:ext cx="171720" cy="2952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1" name="Group 107"/>
                  <p:cNvGrpSpPr/>
                  <p:nvPr/>
                </p:nvGrpSpPr>
                <p:grpSpPr>
                  <a:xfrm>
                    <a:off x="130680" y="2474280"/>
                    <a:ext cx="206640" cy="204480"/>
                    <a:chOff x="130680" y="2474280"/>
                    <a:chExt cx="206640" cy="204480"/>
                  </a:xfrm>
                </p:grpSpPr>
                <p:sp>
                  <p:nvSpPr>
                    <p:cNvPr id="142" name="Rectangle 108"/>
                    <p:cNvSpPr/>
                    <p:nvPr/>
                  </p:nvSpPr>
                  <p:spPr>
                    <a:xfrm rot="13639200">
                      <a:off x="114840" y="2592360"/>
                      <a:ext cx="165240" cy="3024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560" bIns="-16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Rectangle 109"/>
                    <p:cNvSpPr/>
                    <p:nvPr/>
                  </p:nvSpPr>
                  <p:spPr>
                    <a:xfrm rot="13639200">
                      <a:off x="151560" y="2561760"/>
                      <a:ext cx="165240" cy="3024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560" bIns="-16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Rectangle 110"/>
                    <p:cNvSpPr/>
                    <p:nvPr/>
                  </p:nvSpPr>
                  <p:spPr>
                    <a:xfrm rot="13639200">
                      <a:off x="186120" y="2530440"/>
                      <a:ext cx="166680" cy="3024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560" bIns="-16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5" name="Group 111"/>
                  <p:cNvGrpSpPr/>
                  <p:nvPr/>
                </p:nvGrpSpPr>
                <p:grpSpPr>
                  <a:xfrm>
                    <a:off x="104760" y="2703600"/>
                    <a:ext cx="207000" cy="204840"/>
                    <a:chOff x="104760" y="2703600"/>
                    <a:chExt cx="207000" cy="204840"/>
                  </a:xfrm>
                </p:grpSpPr>
                <p:sp>
                  <p:nvSpPr>
                    <p:cNvPr id="146" name="Rectangle 112"/>
                    <p:cNvSpPr/>
                    <p:nvPr/>
                  </p:nvSpPr>
                  <p:spPr>
                    <a:xfrm rot="13639200">
                      <a:off x="88920" y="2822040"/>
                      <a:ext cx="165600" cy="3024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560" bIns="-16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" name="Rectangle 113"/>
                    <p:cNvSpPr/>
                    <p:nvPr/>
                  </p:nvSpPr>
                  <p:spPr>
                    <a:xfrm rot="13639200">
                      <a:off x="125640" y="2791440"/>
                      <a:ext cx="165600" cy="3024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560" bIns="-16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" name="Rectangle 114"/>
                    <p:cNvSpPr/>
                    <p:nvPr/>
                  </p:nvSpPr>
                  <p:spPr>
                    <a:xfrm rot="13639200">
                      <a:off x="160200" y="2759760"/>
                      <a:ext cx="167040" cy="3024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560" bIns="-16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49" name="Group 115"/>
                <p:cNvGrpSpPr/>
                <p:nvPr/>
              </p:nvGrpSpPr>
              <p:grpSpPr>
                <a:xfrm>
                  <a:off x="-2520" y="2962440"/>
                  <a:ext cx="448200" cy="443160"/>
                  <a:chOff x="-2520" y="2962440"/>
                  <a:chExt cx="448200" cy="443160"/>
                </a:xfrm>
              </p:grpSpPr>
              <p:grpSp>
                <p:nvGrpSpPr>
                  <p:cNvPr id="150" name="Group 116"/>
                  <p:cNvGrpSpPr/>
                  <p:nvPr/>
                </p:nvGrpSpPr>
                <p:grpSpPr>
                  <a:xfrm>
                    <a:off x="236520" y="3093120"/>
                    <a:ext cx="209160" cy="207360"/>
                    <a:chOff x="236520" y="3093120"/>
                    <a:chExt cx="209160" cy="207360"/>
                  </a:xfrm>
                </p:grpSpPr>
                <p:sp>
                  <p:nvSpPr>
                    <p:cNvPr id="151" name="Rectangle 117"/>
                    <p:cNvSpPr/>
                    <p:nvPr/>
                  </p:nvSpPr>
                  <p:spPr>
                    <a:xfrm rot="19039200">
                      <a:off x="223560" y="3147480"/>
                      <a:ext cx="172080" cy="2952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" name="Rectangle 118"/>
                    <p:cNvSpPr/>
                    <p:nvPr/>
                  </p:nvSpPr>
                  <p:spPr>
                    <a:xfrm rot="19039200">
                      <a:off x="254520" y="3182400"/>
                      <a:ext cx="172080" cy="2952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" name="Rectangle 119"/>
                    <p:cNvSpPr/>
                    <p:nvPr/>
                  </p:nvSpPr>
                  <p:spPr>
                    <a:xfrm rot="19039200">
                      <a:off x="286200" y="3216600"/>
                      <a:ext cx="172080" cy="2952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4" name="Group 120"/>
                  <p:cNvGrpSpPr/>
                  <p:nvPr/>
                </p:nvGrpSpPr>
                <p:grpSpPr>
                  <a:xfrm>
                    <a:off x="-2520" y="3069720"/>
                    <a:ext cx="208800" cy="207360"/>
                    <a:chOff x="-2520" y="3069720"/>
                    <a:chExt cx="208800" cy="207360"/>
                  </a:xfrm>
                </p:grpSpPr>
                <p:sp>
                  <p:nvSpPr>
                    <p:cNvPr id="155" name="Rectangle 121"/>
                    <p:cNvSpPr/>
                    <p:nvPr/>
                  </p:nvSpPr>
                  <p:spPr>
                    <a:xfrm rot="19039200">
                      <a:off x="-14760" y="3123720"/>
                      <a:ext cx="172080" cy="3024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560" bIns="-16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6" name="Rectangle 122"/>
                    <p:cNvSpPr/>
                    <p:nvPr/>
                  </p:nvSpPr>
                  <p:spPr>
                    <a:xfrm rot="19039200">
                      <a:off x="16200" y="3159000"/>
                      <a:ext cx="172080" cy="3024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560" bIns="-16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7" name="Rectangle 123"/>
                    <p:cNvSpPr/>
                    <p:nvPr/>
                  </p:nvSpPr>
                  <p:spPr>
                    <a:xfrm rot="19039200">
                      <a:off x="46800" y="3192120"/>
                      <a:ext cx="172080" cy="3024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560" bIns="-16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8" name="Group 124"/>
                  <p:cNvGrpSpPr/>
                  <p:nvPr/>
                </p:nvGrpSpPr>
                <p:grpSpPr>
                  <a:xfrm>
                    <a:off x="131040" y="2962440"/>
                    <a:ext cx="205920" cy="208440"/>
                    <a:chOff x="131040" y="2962440"/>
                    <a:chExt cx="205920" cy="208440"/>
                  </a:xfrm>
                </p:grpSpPr>
                <p:sp>
                  <p:nvSpPr>
                    <p:cNvPr id="159" name="Rectangle 125"/>
                    <p:cNvSpPr/>
                    <p:nvPr/>
                  </p:nvSpPr>
                  <p:spPr>
                    <a:xfrm rot="13639200">
                      <a:off x="114840" y="3084840"/>
                      <a:ext cx="166680" cy="2952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" name="Rectangle 126"/>
                    <p:cNvSpPr/>
                    <p:nvPr/>
                  </p:nvSpPr>
                  <p:spPr>
                    <a:xfrm rot="13639200">
                      <a:off x="151920" y="3054240"/>
                      <a:ext cx="166680" cy="3096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840" bIns="-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" name="Rectangle 127"/>
                    <p:cNvSpPr/>
                    <p:nvPr/>
                  </p:nvSpPr>
                  <p:spPr>
                    <a:xfrm rot="13639200">
                      <a:off x="184680" y="3019680"/>
                      <a:ext cx="168480" cy="2952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2" name="Group 128"/>
                  <p:cNvGrpSpPr/>
                  <p:nvPr/>
                </p:nvGrpSpPr>
                <p:grpSpPr>
                  <a:xfrm>
                    <a:off x="107280" y="3196800"/>
                    <a:ext cx="207720" cy="208800"/>
                    <a:chOff x="107280" y="3196800"/>
                    <a:chExt cx="207720" cy="208800"/>
                  </a:xfrm>
                </p:grpSpPr>
                <p:sp>
                  <p:nvSpPr>
                    <p:cNvPr id="163" name="Rectangle 129"/>
                    <p:cNvSpPr/>
                    <p:nvPr/>
                  </p:nvSpPr>
                  <p:spPr>
                    <a:xfrm rot="13639200">
                      <a:off x="91080" y="3318480"/>
                      <a:ext cx="168120" cy="2988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" name="Rectangle 130"/>
                    <p:cNvSpPr/>
                    <p:nvPr/>
                  </p:nvSpPr>
                  <p:spPr>
                    <a:xfrm rot="13639200">
                      <a:off x="127080" y="3287880"/>
                      <a:ext cx="168120" cy="2988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" name="Rectangle 131"/>
                    <p:cNvSpPr/>
                    <p:nvPr/>
                  </p:nvSpPr>
                  <p:spPr>
                    <a:xfrm rot="13639200">
                      <a:off x="161280" y="3254040"/>
                      <a:ext cx="169920" cy="2988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66" name="Group 132"/>
              <p:cNvGrpSpPr/>
              <p:nvPr/>
            </p:nvGrpSpPr>
            <p:grpSpPr>
              <a:xfrm>
                <a:off x="-2520" y="3426120"/>
                <a:ext cx="450360" cy="3394440"/>
                <a:chOff x="-2520" y="3426120"/>
                <a:chExt cx="450360" cy="3394440"/>
              </a:xfrm>
            </p:grpSpPr>
            <p:grpSp>
              <p:nvGrpSpPr>
                <p:cNvPr id="167" name="Group 133"/>
                <p:cNvGrpSpPr/>
                <p:nvPr/>
              </p:nvGrpSpPr>
              <p:grpSpPr>
                <a:xfrm>
                  <a:off x="-2520" y="5397480"/>
                  <a:ext cx="447840" cy="439920"/>
                  <a:chOff x="-2520" y="5397480"/>
                  <a:chExt cx="447840" cy="439920"/>
                </a:xfrm>
              </p:grpSpPr>
              <p:grpSp>
                <p:nvGrpSpPr>
                  <p:cNvPr id="168" name="Group 134"/>
                  <p:cNvGrpSpPr/>
                  <p:nvPr/>
                </p:nvGrpSpPr>
                <p:grpSpPr>
                  <a:xfrm>
                    <a:off x="236520" y="5526720"/>
                    <a:ext cx="208800" cy="207000"/>
                    <a:chOff x="236520" y="5526720"/>
                    <a:chExt cx="208800" cy="207000"/>
                  </a:xfrm>
                </p:grpSpPr>
                <p:sp>
                  <p:nvSpPr>
                    <p:cNvPr id="169" name="Rectangle 135"/>
                    <p:cNvSpPr/>
                    <p:nvPr/>
                  </p:nvSpPr>
                  <p:spPr>
                    <a:xfrm rot="19039200">
                      <a:off x="223560" y="5581080"/>
                      <a:ext cx="172080" cy="2952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" name="Rectangle 136"/>
                    <p:cNvSpPr/>
                    <p:nvPr/>
                  </p:nvSpPr>
                  <p:spPr>
                    <a:xfrm rot="19039200">
                      <a:off x="254520" y="5616000"/>
                      <a:ext cx="172080" cy="2952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" name="Rectangle 137"/>
                    <p:cNvSpPr/>
                    <p:nvPr/>
                  </p:nvSpPr>
                  <p:spPr>
                    <a:xfrm rot="19039200">
                      <a:off x="285840" y="5649840"/>
                      <a:ext cx="172080" cy="2952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2" name="Group 138"/>
                  <p:cNvGrpSpPr/>
                  <p:nvPr/>
                </p:nvGrpSpPr>
                <p:grpSpPr>
                  <a:xfrm>
                    <a:off x="-2520" y="5502960"/>
                    <a:ext cx="208800" cy="207000"/>
                    <a:chOff x="-2520" y="5502960"/>
                    <a:chExt cx="208800" cy="207000"/>
                  </a:xfrm>
                </p:grpSpPr>
                <p:sp>
                  <p:nvSpPr>
                    <p:cNvPr id="173" name="Rectangle 139"/>
                    <p:cNvSpPr/>
                    <p:nvPr/>
                  </p:nvSpPr>
                  <p:spPr>
                    <a:xfrm rot="19039200">
                      <a:off x="-15120" y="5557320"/>
                      <a:ext cx="172080" cy="2952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4" name="Rectangle 140"/>
                    <p:cNvSpPr/>
                    <p:nvPr/>
                  </p:nvSpPr>
                  <p:spPr>
                    <a:xfrm rot="19039200">
                      <a:off x="15840" y="5591880"/>
                      <a:ext cx="172080" cy="2952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5" name="Rectangle 141"/>
                    <p:cNvSpPr/>
                    <p:nvPr/>
                  </p:nvSpPr>
                  <p:spPr>
                    <a:xfrm rot="19039200">
                      <a:off x="46800" y="5626080"/>
                      <a:ext cx="172080" cy="2952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6" name="Group 142"/>
                  <p:cNvGrpSpPr/>
                  <p:nvPr/>
                </p:nvGrpSpPr>
                <p:grpSpPr>
                  <a:xfrm>
                    <a:off x="131400" y="5397480"/>
                    <a:ext cx="207360" cy="205560"/>
                    <a:chOff x="131400" y="5397480"/>
                    <a:chExt cx="207360" cy="205560"/>
                  </a:xfrm>
                </p:grpSpPr>
                <p:sp>
                  <p:nvSpPr>
                    <p:cNvPr id="177" name="Rectangle 143"/>
                    <p:cNvSpPr/>
                    <p:nvPr/>
                  </p:nvSpPr>
                  <p:spPr>
                    <a:xfrm rot="13639200">
                      <a:off x="115920" y="5516640"/>
                      <a:ext cx="165960" cy="3024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560" bIns="-16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" name="Rectangle 144"/>
                    <p:cNvSpPr/>
                    <p:nvPr/>
                  </p:nvSpPr>
                  <p:spPr>
                    <a:xfrm rot="13639200">
                      <a:off x="152640" y="5486040"/>
                      <a:ext cx="165960" cy="3024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560" bIns="-16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" name="Rectangle 145"/>
                    <p:cNvSpPr/>
                    <p:nvPr/>
                  </p:nvSpPr>
                  <p:spPr>
                    <a:xfrm rot="13639200">
                      <a:off x="186480" y="5454360"/>
                      <a:ext cx="167760" cy="3024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560" bIns="-16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0" name="Group 146"/>
                  <p:cNvGrpSpPr/>
                  <p:nvPr/>
                </p:nvGrpSpPr>
                <p:grpSpPr>
                  <a:xfrm>
                    <a:off x="107640" y="5631840"/>
                    <a:ext cx="207360" cy="205560"/>
                    <a:chOff x="107640" y="5631840"/>
                    <a:chExt cx="207360" cy="205560"/>
                  </a:xfrm>
                </p:grpSpPr>
                <p:sp>
                  <p:nvSpPr>
                    <p:cNvPr id="181" name="Rectangle 147"/>
                    <p:cNvSpPr/>
                    <p:nvPr/>
                  </p:nvSpPr>
                  <p:spPr>
                    <a:xfrm rot="13639200">
                      <a:off x="92160" y="5751000"/>
                      <a:ext cx="165960" cy="3024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560" bIns="-16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2" name="Rectangle 148"/>
                    <p:cNvSpPr/>
                    <p:nvPr/>
                  </p:nvSpPr>
                  <p:spPr>
                    <a:xfrm rot="13639200">
                      <a:off x="128880" y="5720400"/>
                      <a:ext cx="165960" cy="3024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560" bIns="-16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" name="Rectangle 149"/>
                    <p:cNvSpPr/>
                    <p:nvPr/>
                  </p:nvSpPr>
                  <p:spPr>
                    <a:xfrm rot="13639200">
                      <a:off x="162720" y="5688720"/>
                      <a:ext cx="167760" cy="3024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560" bIns="-16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84" name="Group 150"/>
                <p:cNvGrpSpPr/>
                <p:nvPr/>
              </p:nvGrpSpPr>
              <p:grpSpPr>
                <a:xfrm>
                  <a:off x="-2160" y="4906800"/>
                  <a:ext cx="446760" cy="438480"/>
                  <a:chOff x="-2160" y="4906800"/>
                  <a:chExt cx="446760" cy="438480"/>
                </a:xfrm>
              </p:grpSpPr>
              <p:grpSp>
                <p:nvGrpSpPr>
                  <p:cNvPr id="185" name="Group 151"/>
                  <p:cNvGrpSpPr/>
                  <p:nvPr/>
                </p:nvGrpSpPr>
                <p:grpSpPr>
                  <a:xfrm>
                    <a:off x="235800" y="5033880"/>
                    <a:ext cx="208800" cy="207360"/>
                    <a:chOff x="235800" y="5033880"/>
                    <a:chExt cx="208800" cy="207360"/>
                  </a:xfrm>
                </p:grpSpPr>
                <p:sp>
                  <p:nvSpPr>
                    <p:cNvPr id="186" name="Rectangle 152"/>
                    <p:cNvSpPr/>
                    <p:nvPr/>
                  </p:nvSpPr>
                  <p:spPr>
                    <a:xfrm rot="19039200">
                      <a:off x="223200" y="5087880"/>
                      <a:ext cx="172080" cy="3024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560" bIns="-16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" name="Rectangle 153"/>
                    <p:cNvSpPr/>
                    <p:nvPr/>
                  </p:nvSpPr>
                  <p:spPr>
                    <a:xfrm rot="19039200">
                      <a:off x="254880" y="5122800"/>
                      <a:ext cx="172080" cy="3024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560" bIns="-16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Rectangle 154"/>
                    <p:cNvSpPr/>
                    <p:nvPr/>
                  </p:nvSpPr>
                  <p:spPr>
                    <a:xfrm rot="19039200">
                      <a:off x="285120" y="5156280"/>
                      <a:ext cx="172080" cy="3024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560" bIns="-16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9" name="Group 155"/>
                  <p:cNvGrpSpPr/>
                  <p:nvPr/>
                </p:nvGrpSpPr>
                <p:grpSpPr>
                  <a:xfrm>
                    <a:off x="-2160" y="5010480"/>
                    <a:ext cx="210240" cy="209160"/>
                    <a:chOff x="-2160" y="5010480"/>
                    <a:chExt cx="210240" cy="209160"/>
                  </a:xfrm>
                </p:grpSpPr>
                <p:sp>
                  <p:nvSpPr>
                    <p:cNvPr id="190" name="Rectangle 156"/>
                    <p:cNvSpPr/>
                    <p:nvPr/>
                  </p:nvSpPr>
                  <p:spPr>
                    <a:xfrm rot="19039200">
                      <a:off x="-14400" y="5064480"/>
                      <a:ext cx="172080" cy="3024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560" bIns="-16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Rectangle 157"/>
                    <p:cNvSpPr/>
                    <p:nvPr/>
                  </p:nvSpPr>
                  <p:spPr>
                    <a:xfrm rot="19039200">
                      <a:off x="15120" y="5099040"/>
                      <a:ext cx="172080" cy="3168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" name="Rectangle 158"/>
                    <p:cNvSpPr/>
                    <p:nvPr/>
                  </p:nvSpPr>
                  <p:spPr>
                    <a:xfrm rot="19039200">
                      <a:off x="47160" y="5134320"/>
                      <a:ext cx="173520" cy="3024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560" bIns="-16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3" name="Group 159"/>
                  <p:cNvGrpSpPr/>
                  <p:nvPr/>
                </p:nvGrpSpPr>
                <p:grpSpPr>
                  <a:xfrm>
                    <a:off x="130680" y="4906800"/>
                    <a:ext cx="207000" cy="205200"/>
                    <a:chOff x="130680" y="4906800"/>
                    <a:chExt cx="207000" cy="205200"/>
                  </a:xfrm>
                </p:grpSpPr>
                <p:sp>
                  <p:nvSpPr>
                    <p:cNvPr id="194" name="Rectangle 160"/>
                    <p:cNvSpPr/>
                    <p:nvPr/>
                  </p:nvSpPr>
                  <p:spPr>
                    <a:xfrm rot="13639200">
                      <a:off x="114840" y="5025600"/>
                      <a:ext cx="165600" cy="3024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560" bIns="-16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" name="Rectangle 161"/>
                    <p:cNvSpPr/>
                    <p:nvPr/>
                  </p:nvSpPr>
                  <p:spPr>
                    <a:xfrm rot="13639200">
                      <a:off x="151200" y="4995360"/>
                      <a:ext cx="165600" cy="3024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560" bIns="-16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" name="Rectangle 162"/>
                    <p:cNvSpPr/>
                    <p:nvPr/>
                  </p:nvSpPr>
                  <p:spPr>
                    <a:xfrm rot="13639200">
                      <a:off x="185760" y="4963320"/>
                      <a:ext cx="167400" cy="3024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560" bIns="-16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7" name="Group 163"/>
                  <p:cNvGrpSpPr/>
                  <p:nvPr/>
                </p:nvGrpSpPr>
                <p:grpSpPr>
                  <a:xfrm>
                    <a:off x="105120" y="5139000"/>
                    <a:ext cx="208800" cy="206280"/>
                    <a:chOff x="105120" y="5139000"/>
                    <a:chExt cx="208800" cy="206280"/>
                  </a:xfrm>
                </p:grpSpPr>
                <p:sp>
                  <p:nvSpPr>
                    <p:cNvPr id="198" name="Rectangle 164"/>
                    <p:cNvSpPr/>
                    <p:nvPr/>
                  </p:nvSpPr>
                  <p:spPr>
                    <a:xfrm rot="13639200">
                      <a:off x="90000" y="5257080"/>
                      <a:ext cx="165960" cy="3204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760" bIns="-14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Rectangle 165"/>
                    <p:cNvSpPr/>
                    <p:nvPr/>
                  </p:nvSpPr>
                  <p:spPr>
                    <a:xfrm rot="13639200">
                      <a:off x="127440" y="5226840"/>
                      <a:ext cx="165600" cy="3204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760" bIns="-14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Rectangle 166"/>
                    <p:cNvSpPr/>
                    <p:nvPr/>
                  </p:nvSpPr>
                  <p:spPr>
                    <a:xfrm rot="13639200">
                      <a:off x="161640" y="5195160"/>
                      <a:ext cx="167400" cy="3204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760" bIns="-14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01" name="Group 167"/>
                <p:cNvGrpSpPr/>
                <p:nvPr/>
              </p:nvGrpSpPr>
              <p:grpSpPr>
                <a:xfrm>
                  <a:off x="-2160" y="4412520"/>
                  <a:ext cx="448200" cy="438840"/>
                  <a:chOff x="-2160" y="4412520"/>
                  <a:chExt cx="448200" cy="438840"/>
                </a:xfrm>
              </p:grpSpPr>
              <p:grpSp>
                <p:nvGrpSpPr>
                  <p:cNvPr id="202" name="Group 168"/>
                  <p:cNvGrpSpPr/>
                  <p:nvPr/>
                </p:nvGrpSpPr>
                <p:grpSpPr>
                  <a:xfrm>
                    <a:off x="237240" y="4540680"/>
                    <a:ext cx="208800" cy="207000"/>
                    <a:chOff x="237240" y="4540680"/>
                    <a:chExt cx="208800" cy="207000"/>
                  </a:xfrm>
                </p:grpSpPr>
                <p:sp>
                  <p:nvSpPr>
                    <p:cNvPr id="203" name="Rectangle 169"/>
                    <p:cNvSpPr/>
                    <p:nvPr/>
                  </p:nvSpPr>
                  <p:spPr>
                    <a:xfrm rot="19039200">
                      <a:off x="224280" y="4594680"/>
                      <a:ext cx="172080" cy="2988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4" name="Rectangle 170"/>
                    <p:cNvSpPr/>
                    <p:nvPr/>
                  </p:nvSpPr>
                  <p:spPr>
                    <a:xfrm rot="19039200">
                      <a:off x="255960" y="4629600"/>
                      <a:ext cx="172080" cy="2988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5" name="Rectangle 171"/>
                    <p:cNvSpPr/>
                    <p:nvPr/>
                  </p:nvSpPr>
                  <p:spPr>
                    <a:xfrm rot="19039200">
                      <a:off x="286200" y="4663080"/>
                      <a:ext cx="172080" cy="2988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6" name="Group 172"/>
                  <p:cNvGrpSpPr/>
                  <p:nvPr/>
                </p:nvGrpSpPr>
                <p:grpSpPr>
                  <a:xfrm>
                    <a:off x="-2160" y="4516920"/>
                    <a:ext cx="209160" cy="207000"/>
                    <a:chOff x="-2160" y="4516920"/>
                    <a:chExt cx="209160" cy="207000"/>
                  </a:xfrm>
                </p:grpSpPr>
                <p:sp>
                  <p:nvSpPr>
                    <p:cNvPr id="207" name="Rectangle 173"/>
                    <p:cNvSpPr/>
                    <p:nvPr/>
                  </p:nvSpPr>
                  <p:spPr>
                    <a:xfrm rot="19039200">
                      <a:off x="-14760" y="4570920"/>
                      <a:ext cx="172080" cy="2988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" name="Rectangle 174"/>
                    <p:cNvSpPr/>
                    <p:nvPr/>
                  </p:nvSpPr>
                  <p:spPr>
                    <a:xfrm rot="19039200">
                      <a:off x="16920" y="4605840"/>
                      <a:ext cx="172080" cy="2988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" name="Rectangle 175"/>
                    <p:cNvSpPr/>
                    <p:nvPr/>
                  </p:nvSpPr>
                  <p:spPr>
                    <a:xfrm rot="19039200">
                      <a:off x="47160" y="4639320"/>
                      <a:ext cx="172080" cy="2988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0" name="Group 176"/>
                  <p:cNvGrpSpPr/>
                  <p:nvPr/>
                </p:nvGrpSpPr>
                <p:grpSpPr>
                  <a:xfrm>
                    <a:off x="131760" y="4412520"/>
                    <a:ext cx="207720" cy="205560"/>
                    <a:chOff x="131760" y="4412520"/>
                    <a:chExt cx="207720" cy="205560"/>
                  </a:xfrm>
                </p:grpSpPr>
                <p:sp>
                  <p:nvSpPr>
                    <p:cNvPr id="211" name="Rectangle 177"/>
                    <p:cNvSpPr/>
                    <p:nvPr/>
                  </p:nvSpPr>
                  <p:spPr>
                    <a:xfrm rot="13639200">
                      <a:off x="116280" y="4531320"/>
                      <a:ext cx="165960" cy="3060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200" bIns="-16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" name="Rectangle 178"/>
                    <p:cNvSpPr/>
                    <p:nvPr/>
                  </p:nvSpPr>
                  <p:spPr>
                    <a:xfrm rot="13639200">
                      <a:off x="153000" y="4500720"/>
                      <a:ext cx="165960" cy="3060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200" bIns="-16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" name="Rectangle 179"/>
                    <p:cNvSpPr/>
                    <p:nvPr/>
                  </p:nvSpPr>
                  <p:spPr>
                    <a:xfrm rot="13639200">
                      <a:off x="187920" y="4468680"/>
                      <a:ext cx="167400" cy="3060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200" bIns="-16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4" name="Group 180"/>
                  <p:cNvGrpSpPr/>
                  <p:nvPr/>
                </p:nvGrpSpPr>
                <p:grpSpPr>
                  <a:xfrm>
                    <a:off x="108000" y="4646160"/>
                    <a:ext cx="207360" cy="205200"/>
                    <a:chOff x="108000" y="4646160"/>
                    <a:chExt cx="207360" cy="205200"/>
                  </a:xfrm>
                </p:grpSpPr>
                <p:sp>
                  <p:nvSpPr>
                    <p:cNvPr id="215" name="Rectangle 181"/>
                    <p:cNvSpPr/>
                    <p:nvPr/>
                  </p:nvSpPr>
                  <p:spPr>
                    <a:xfrm rot="13639200">
                      <a:off x="92520" y="4764600"/>
                      <a:ext cx="165960" cy="3060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200" bIns="-16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" name="Rectangle 182"/>
                    <p:cNvSpPr/>
                    <p:nvPr/>
                  </p:nvSpPr>
                  <p:spPr>
                    <a:xfrm rot="13639200">
                      <a:off x="129240" y="4734000"/>
                      <a:ext cx="165960" cy="3060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200" bIns="-16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" name="Rectangle 183"/>
                    <p:cNvSpPr/>
                    <p:nvPr/>
                  </p:nvSpPr>
                  <p:spPr>
                    <a:xfrm rot="13639200">
                      <a:off x="163800" y="4702320"/>
                      <a:ext cx="167400" cy="3060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200" bIns="-16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18" name="Group 184"/>
                <p:cNvGrpSpPr/>
                <p:nvPr/>
              </p:nvGrpSpPr>
              <p:grpSpPr>
                <a:xfrm>
                  <a:off x="0" y="3918600"/>
                  <a:ext cx="447840" cy="439560"/>
                  <a:chOff x="0" y="3918600"/>
                  <a:chExt cx="447840" cy="439560"/>
                </a:xfrm>
              </p:grpSpPr>
              <p:grpSp>
                <p:nvGrpSpPr>
                  <p:cNvPr id="219" name="Group 185"/>
                  <p:cNvGrpSpPr/>
                  <p:nvPr/>
                </p:nvGrpSpPr>
                <p:grpSpPr>
                  <a:xfrm>
                    <a:off x="238680" y="4045680"/>
                    <a:ext cx="209160" cy="207000"/>
                    <a:chOff x="238680" y="4045680"/>
                    <a:chExt cx="209160" cy="207000"/>
                  </a:xfrm>
                </p:grpSpPr>
                <p:sp>
                  <p:nvSpPr>
                    <p:cNvPr id="220" name="Rectangle 186"/>
                    <p:cNvSpPr/>
                    <p:nvPr/>
                  </p:nvSpPr>
                  <p:spPr>
                    <a:xfrm rot="19039200">
                      <a:off x="226080" y="4100040"/>
                      <a:ext cx="172440" cy="3060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200" bIns="-16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" name="Rectangle 187"/>
                    <p:cNvSpPr/>
                    <p:nvPr/>
                  </p:nvSpPr>
                  <p:spPr>
                    <a:xfrm rot="19039200">
                      <a:off x="256320" y="4133880"/>
                      <a:ext cx="172440" cy="3060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200" bIns="-16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2" name="Rectangle 188"/>
                    <p:cNvSpPr/>
                    <p:nvPr/>
                  </p:nvSpPr>
                  <p:spPr>
                    <a:xfrm rot="19039200">
                      <a:off x="287640" y="4167720"/>
                      <a:ext cx="172440" cy="3060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200" bIns="-16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3" name="Group 189"/>
                  <p:cNvGrpSpPr/>
                  <p:nvPr/>
                </p:nvGrpSpPr>
                <p:grpSpPr>
                  <a:xfrm>
                    <a:off x="0" y="4022640"/>
                    <a:ext cx="210240" cy="208800"/>
                    <a:chOff x="0" y="4022640"/>
                    <a:chExt cx="210240" cy="208800"/>
                  </a:xfrm>
                </p:grpSpPr>
                <p:sp>
                  <p:nvSpPr>
                    <p:cNvPr id="224" name="Rectangle 190"/>
                    <p:cNvSpPr/>
                    <p:nvPr/>
                  </p:nvSpPr>
                  <p:spPr>
                    <a:xfrm rot="19039200">
                      <a:off x="-12600" y="4077000"/>
                      <a:ext cx="172440" cy="2988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" name="Rectangle 191"/>
                    <p:cNvSpPr/>
                    <p:nvPr/>
                  </p:nvSpPr>
                  <p:spPr>
                    <a:xfrm rot="19039200">
                      <a:off x="17280" y="4111560"/>
                      <a:ext cx="172800" cy="3168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" name="Rectangle 192"/>
                    <p:cNvSpPr/>
                    <p:nvPr/>
                  </p:nvSpPr>
                  <p:spPr>
                    <a:xfrm rot="19039200">
                      <a:off x="48960" y="4146120"/>
                      <a:ext cx="174240" cy="2988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7" name="Group 193"/>
                  <p:cNvGrpSpPr/>
                  <p:nvPr/>
                </p:nvGrpSpPr>
                <p:grpSpPr>
                  <a:xfrm>
                    <a:off x="133560" y="3918600"/>
                    <a:ext cx="206640" cy="207360"/>
                    <a:chOff x="133560" y="3918600"/>
                    <a:chExt cx="206640" cy="207360"/>
                  </a:xfrm>
                </p:grpSpPr>
                <p:sp>
                  <p:nvSpPr>
                    <p:cNvPr id="228" name="Rectangle 194"/>
                    <p:cNvSpPr/>
                    <p:nvPr/>
                  </p:nvSpPr>
                  <p:spPr>
                    <a:xfrm rot="13639200">
                      <a:off x="117720" y="4039560"/>
                      <a:ext cx="166680" cy="2988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" name="Rectangle 195"/>
                    <p:cNvSpPr/>
                    <p:nvPr/>
                  </p:nvSpPr>
                  <p:spPr>
                    <a:xfrm rot="13639200">
                      <a:off x="154080" y="4009680"/>
                      <a:ext cx="166680" cy="2988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" name="Rectangle 196"/>
                    <p:cNvSpPr/>
                    <p:nvPr/>
                  </p:nvSpPr>
                  <p:spPr>
                    <a:xfrm rot="13639200">
                      <a:off x="187920" y="3975480"/>
                      <a:ext cx="168120" cy="2988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1" name="Group 197"/>
                  <p:cNvGrpSpPr/>
                  <p:nvPr/>
                </p:nvGrpSpPr>
                <p:grpSpPr>
                  <a:xfrm>
                    <a:off x="107640" y="4148280"/>
                    <a:ext cx="208440" cy="209880"/>
                    <a:chOff x="107640" y="4148280"/>
                    <a:chExt cx="208440" cy="209880"/>
                  </a:xfrm>
                </p:grpSpPr>
                <p:sp>
                  <p:nvSpPr>
                    <p:cNvPr id="232" name="Rectangle 198"/>
                    <p:cNvSpPr/>
                    <p:nvPr/>
                  </p:nvSpPr>
                  <p:spPr>
                    <a:xfrm rot="13639200">
                      <a:off x="91800" y="4270320"/>
                      <a:ext cx="167400" cy="3096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840" bIns="-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Rectangle 199"/>
                    <p:cNvSpPr/>
                    <p:nvPr/>
                  </p:nvSpPr>
                  <p:spPr>
                    <a:xfrm rot="13639200">
                      <a:off x="128160" y="4238280"/>
                      <a:ext cx="167400" cy="3240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400" bIns="-14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4" name="Rectangle 200"/>
                    <p:cNvSpPr/>
                    <p:nvPr/>
                  </p:nvSpPr>
                  <p:spPr>
                    <a:xfrm rot="13639200">
                      <a:off x="162720" y="4205520"/>
                      <a:ext cx="169200" cy="3096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840" bIns="-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35" name="Group 201"/>
                <p:cNvGrpSpPr/>
                <p:nvPr/>
              </p:nvGrpSpPr>
              <p:grpSpPr>
                <a:xfrm>
                  <a:off x="-2520" y="3426120"/>
                  <a:ext cx="447480" cy="437400"/>
                  <a:chOff x="-2520" y="3426120"/>
                  <a:chExt cx="447480" cy="437400"/>
                </a:xfrm>
              </p:grpSpPr>
              <p:grpSp>
                <p:nvGrpSpPr>
                  <p:cNvPr id="236" name="Group 202"/>
                  <p:cNvGrpSpPr/>
                  <p:nvPr/>
                </p:nvGrpSpPr>
                <p:grpSpPr>
                  <a:xfrm>
                    <a:off x="236520" y="3553920"/>
                    <a:ext cx="208440" cy="206280"/>
                    <a:chOff x="236520" y="3553920"/>
                    <a:chExt cx="208440" cy="206280"/>
                  </a:xfrm>
                </p:grpSpPr>
                <p:sp>
                  <p:nvSpPr>
                    <p:cNvPr id="237" name="Rectangle 203"/>
                    <p:cNvSpPr/>
                    <p:nvPr/>
                  </p:nvSpPr>
                  <p:spPr>
                    <a:xfrm rot="19039200">
                      <a:off x="223920" y="3607920"/>
                      <a:ext cx="172080" cy="3024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560" bIns="-16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Rectangle 204"/>
                    <p:cNvSpPr/>
                    <p:nvPr/>
                  </p:nvSpPr>
                  <p:spPr>
                    <a:xfrm rot="19039200">
                      <a:off x="254520" y="3642120"/>
                      <a:ext cx="172080" cy="3060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200" bIns="-16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9" name="Rectangle 205"/>
                    <p:cNvSpPr/>
                    <p:nvPr/>
                  </p:nvSpPr>
                  <p:spPr>
                    <a:xfrm rot="19039200">
                      <a:off x="285480" y="3675240"/>
                      <a:ext cx="172080" cy="3024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560" bIns="-16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0" name="Group 206"/>
                  <p:cNvGrpSpPr/>
                  <p:nvPr/>
                </p:nvGrpSpPr>
                <p:grpSpPr>
                  <a:xfrm>
                    <a:off x="-2520" y="3530520"/>
                    <a:ext cx="208440" cy="206280"/>
                    <a:chOff x="-2520" y="3530520"/>
                    <a:chExt cx="208440" cy="206280"/>
                  </a:xfrm>
                </p:grpSpPr>
                <p:sp>
                  <p:nvSpPr>
                    <p:cNvPr id="241" name="Rectangle 207"/>
                    <p:cNvSpPr/>
                    <p:nvPr/>
                  </p:nvSpPr>
                  <p:spPr>
                    <a:xfrm rot="19039200">
                      <a:off x="-14760" y="3584520"/>
                      <a:ext cx="172080" cy="3024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560" bIns="-16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Rectangle 208"/>
                    <p:cNvSpPr/>
                    <p:nvPr/>
                  </p:nvSpPr>
                  <p:spPr>
                    <a:xfrm rot="19039200">
                      <a:off x="15840" y="3618360"/>
                      <a:ext cx="172080" cy="3024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560" bIns="-16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Rectangle 209"/>
                    <p:cNvSpPr/>
                    <p:nvPr/>
                  </p:nvSpPr>
                  <p:spPr>
                    <a:xfrm rot="19039200">
                      <a:off x="46440" y="3651840"/>
                      <a:ext cx="172080" cy="3024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560" bIns="-16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4" name="Group 210"/>
                  <p:cNvGrpSpPr/>
                  <p:nvPr/>
                </p:nvGrpSpPr>
                <p:grpSpPr>
                  <a:xfrm>
                    <a:off x="131040" y="3426120"/>
                    <a:ext cx="207720" cy="205200"/>
                    <a:chOff x="131040" y="3426120"/>
                    <a:chExt cx="207720" cy="205200"/>
                  </a:xfrm>
                </p:grpSpPr>
                <p:sp>
                  <p:nvSpPr>
                    <p:cNvPr id="245" name="Rectangle 211"/>
                    <p:cNvSpPr/>
                    <p:nvPr/>
                  </p:nvSpPr>
                  <p:spPr>
                    <a:xfrm rot="13639200">
                      <a:off x="115200" y="3545280"/>
                      <a:ext cx="165600" cy="2988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" name="Rectangle 212"/>
                    <p:cNvSpPr/>
                    <p:nvPr/>
                  </p:nvSpPr>
                  <p:spPr>
                    <a:xfrm rot="13639200">
                      <a:off x="151920" y="3515400"/>
                      <a:ext cx="165240" cy="2988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" name="Rectangle 213"/>
                    <p:cNvSpPr/>
                    <p:nvPr/>
                  </p:nvSpPr>
                  <p:spPr>
                    <a:xfrm rot="13639200">
                      <a:off x="187560" y="3482280"/>
                      <a:ext cx="167040" cy="2988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8" name="Group 214"/>
                  <p:cNvGrpSpPr/>
                  <p:nvPr/>
                </p:nvGrpSpPr>
                <p:grpSpPr>
                  <a:xfrm>
                    <a:off x="107640" y="3659400"/>
                    <a:ext cx="206640" cy="204120"/>
                    <a:chOff x="107640" y="3659400"/>
                    <a:chExt cx="206640" cy="204120"/>
                  </a:xfrm>
                </p:grpSpPr>
                <p:sp>
                  <p:nvSpPr>
                    <p:cNvPr id="249" name="Rectangle 215"/>
                    <p:cNvSpPr/>
                    <p:nvPr/>
                  </p:nvSpPr>
                  <p:spPr>
                    <a:xfrm rot="13639200">
                      <a:off x="91800" y="3777480"/>
                      <a:ext cx="164880" cy="3024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560" bIns="-16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Rectangle 216"/>
                    <p:cNvSpPr/>
                    <p:nvPr/>
                  </p:nvSpPr>
                  <p:spPr>
                    <a:xfrm rot="13639200">
                      <a:off x="128880" y="3747240"/>
                      <a:ext cx="164880" cy="3024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560" bIns="-16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Rectangle 217"/>
                    <p:cNvSpPr/>
                    <p:nvPr/>
                  </p:nvSpPr>
                  <p:spPr>
                    <a:xfrm rot="13639200">
                      <a:off x="163080" y="3715560"/>
                      <a:ext cx="166680" cy="3024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560" bIns="-16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52" name="Group 218"/>
                <p:cNvGrpSpPr/>
                <p:nvPr/>
              </p:nvGrpSpPr>
              <p:grpSpPr>
                <a:xfrm>
                  <a:off x="-2160" y="5889960"/>
                  <a:ext cx="447120" cy="437040"/>
                  <a:chOff x="-2160" y="5889960"/>
                  <a:chExt cx="447120" cy="437040"/>
                </a:xfrm>
              </p:grpSpPr>
              <p:grpSp>
                <p:nvGrpSpPr>
                  <p:cNvPr id="253" name="Group 219"/>
                  <p:cNvGrpSpPr/>
                  <p:nvPr/>
                </p:nvGrpSpPr>
                <p:grpSpPr>
                  <a:xfrm>
                    <a:off x="235800" y="6017040"/>
                    <a:ext cx="209160" cy="207000"/>
                    <a:chOff x="235800" y="6017040"/>
                    <a:chExt cx="209160" cy="207000"/>
                  </a:xfrm>
                </p:grpSpPr>
                <p:sp>
                  <p:nvSpPr>
                    <p:cNvPr id="254" name="Rectangle 220"/>
                    <p:cNvSpPr/>
                    <p:nvPr/>
                  </p:nvSpPr>
                  <p:spPr>
                    <a:xfrm rot="19039200">
                      <a:off x="222840" y="6071040"/>
                      <a:ext cx="172080" cy="2988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5" name="Rectangle 221"/>
                    <p:cNvSpPr/>
                    <p:nvPr/>
                  </p:nvSpPr>
                  <p:spPr>
                    <a:xfrm rot="19039200">
                      <a:off x="254520" y="6106320"/>
                      <a:ext cx="172080" cy="2988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" name="Rectangle 222"/>
                    <p:cNvSpPr/>
                    <p:nvPr/>
                  </p:nvSpPr>
                  <p:spPr>
                    <a:xfrm rot="19039200">
                      <a:off x="285120" y="6139440"/>
                      <a:ext cx="172080" cy="2988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7" name="Group 223"/>
                  <p:cNvGrpSpPr/>
                  <p:nvPr/>
                </p:nvGrpSpPr>
                <p:grpSpPr>
                  <a:xfrm>
                    <a:off x="-2160" y="5994000"/>
                    <a:ext cx="210240" cy="208800"/>
                    <a:chOff x="-2160" y="5994000"/>
                    <a:chExt cx="210240" cy="208800"/>
                  </a:xfrm>
                </p:grpSpPr>
                <p:sp>
                  <p:nvSpPr>
                    <p:cNvPr id="258" name="Rectangle 224"/>
                    <p:cNvSpPr/>
                    <p:nvPr/>
                  </p:nvSpPr>
                  <p:spPr>
                    <a:xfrm rot="19039200">
                      <a:off x="-14760" y="6048000"/>
                      <a:ext cx="172080" cy="2988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9" name="Rectangle 225"/>
                    <p:cNvSpPr/>
                    <p:nvPr/>
                  </p:nvSpPr>
                  <p:spPr>
                    <a:xfrm rot="19039200">
                      <a:off x="15120" y="6082560"/>
                      <a:ext cx="172080" cy="3168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" name="Rectangle 226"/>
                    <p:cNvSpPr/>
                    <p:nvPr/>
                  </p:nvSpPr>
                  <p:spPr>
                    <a:xfrm rot="19039200">
                      <a:off x="47160" y="6117840"/>
                      <a:ext cx="173520" cy="2988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1" name="Group 227"/>
                  <p:cNvGrpSpPr/>
                  <p:nvPr/>
                </p:nvGrpSpPr>
                <p:grpSpPr>
                  <a:xfrm>
                    <a:off x="130320" y="5889960"/>
                    <a:ext cx="207360" cy="205200"/>
                    <a:chOff x="130320" y="5889960"/>
                    <a:chExt cx="207360" cy="205200"/>
                  </a:xfrm>
                </p:grpSpPr>
                <p:sp>
                  <p:nvSpPr>
                    <p:cNvPr id="262" name="Rectangle 228"/>
                    <p:cNvSpPr/>
                    <p:nvPr/>
                  </p:nvSpPr>
                  <p:spPr>
                    <a:xfrm rot="13639200">
                      <a:off x="114480" y="6009120"/>
                      <a:ext cx="165600" cy="2988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" name="Rectangle 229"/>
                    <p:cNvSpPr/>
                    <p:nvPr/>
                  </p:nvSpPr>
                  <p:spPr>
                    <a:xfrm rot="13639200">
                      <a:off x="150840" y="5978880"/>
                      <a:ext cx="165600" cy="2988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" name="Rectangle 230"/>
                    <p:cNvSpPr/>
                    <p:nvPr/>
                  </p:nvSpPr>
                  <p:spPr>
                    <a:xfrm rot="13639200">
                      <a:off x="186480" y="5946120"/>
                      <a:ext cx="167040" cy="2988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5" name="Group 231"/>
                  <p:cNvGrpSpPr/>
                  <p:nvPr/>
                </p:nvGrpSpPr>
                <p:grpSpPr>
                  <a:xfrm>
                    <a:off x="105120" y="6121080"/>
                    <a:ext cx="208440" cy="205920"/>
                    <a:chOff x="105120" y="6121080"/>
                    <a:chExt cx="208440" cy="205920"/>
                  </a:xfrm>
                </p:grpSpPr>
                <p:sp>
                  <p:nvSpPr>
                    <p:cNvPr id="266" name="Rectangle 232"/>
                    <p:cNvSpPr/>
                    <p:nvPr/>
                  </p:nvSpPr>
                  <p:spPr>
                    <a:xfrm rot="13639200">
                      <a:off x="90000" y="6239160"/>
                      <a:ext cx="165600" cy="3204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760" bIns="-14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7" name="Rectangle 233"/>
                    <p:cNvSpPr/>
                    <p:nvPr/>
                  </p:nvSpPr>
                  <p:spPr>
                    <a:xfrm rot="13639200">
                      <a:off x="126720" y="6208920"/>
                      <a:ext cx="165600" cy="3204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760" bIns="-14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" name="Rectangle 234"/>
                    <p:cNvSpPr/>
                    <p:nvPr/>
                  </p:nvSpPr>
                  <p:spPr>
                    <a:xfrm rot="13639200">
                      <a:off x="161640" y="6176880"/>
                      <a:ext cx="167040" cy="3204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760" bIns="-14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69" name="Group 235"/>
                <p:cNvGrpSpPr/>
                <p:nvPr/>
              </p:nvGrpSpPr>
              <p:grpSpPr>
                <a:xfrm>
                  <a:off x="-2520" y="6382080"/>
                  <a:ext cx="447840" cy="438480"/>
                  <a:chOff x="-2520" y="6382080"/>
                  <a:chExt cx="447840" cy="438480"/>
                </a:xfrm>
              </p:grpSpPr>
              <p:grpSp>
                <p:nvGrpSpPr>
                  <p:cNvPr id="270" name="Group 236"/>
                  <p:cNvGrpSpPr/>
                  <p:nvPr/>
                </p:nvGrpSpPr>
                <p:grpSpPr>
                  <a:xfrm>
                    <a:off x="236520" y="6510240"/>
                    <a:ext cx="208800" cy="207000"/>
                    <a:chOff x="236520" y="6510240"/>
                    <a:chExt cx="208800" cy="207000"/>
                  </a:xfrm>
                </p:grpSpPr>
                <p:sp>
                  <p:nvSpPr>
                    <p:cNvPr id="271" name="Rectangle 237"/>
                    <p:cNvSpPr/>
                    <p:nvPr/>
                  </p:nvSpPr>
                  <p:spPr>
                    <a:xfrm rot="19039200">
                      <a:off x="223560" y="6564240"/>
                      <a:ext cx="172080" cy="2988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" name="Rectangle 238"/>
                    <p:cNvSpPr/>
                    <p:nvPr/>
                  </p:nvSpPr>
                  <p:spPr>
                    <a:xfrm rot="19039200">
                      <a:off x="254880" y="6599520"/>
                      <a:ext cx="172080" cy="2988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" name="Rectangle 239"/>
                    <p:cNvSpPr/>
                    <p:nvPr/>
                  </p:nvSpPr>
                  <p:spPr>
                    <a:xfrm rot="19039200">
                      <a:off x="285480" y="6632640"/>
                      <a:ext cx="172080" cy="2988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4" name="Group 240"/>
                  <p:cNvGrpSpPr/>
                  <p:nvPr/>
                </p:nvGrpSpPr>
                <p:grpSpPr>
                  <a:xfrm>
                    <a:off x="-2520" y="6486480"/>
                    <a:ext cx="209160" cy="207000"/>
                    <a:chOff x="-2520" y="6486480"/>
                    <a:chExt cx="209160" cy="207000"/>
                  </a:xfrm>
                </p:grpSpPr>
                <p:sp>
                  <p:nvSpPr>
                    <p:cNvPr id="275" name="Rectangle 241"/>
                    <p:cNvSpPr/>
                    <p:nvPr/>
                  </p:nvSpPr>
                  <p:spPr>
                    <a:xfrm rot="19039200">
                      <a:off x="-15120" y="6540480"/>
                      <a:ext cx="172080" cy="2988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" name="Rectangle 242"/>
                    <p:cNvSpPr/>
                    <p:nvPr/>
                  </p:nvSpPr>
                  <p:spPr>
                    <a:xfrm rot="19039200">
                      <a:off x="16560" y="6575400"/>
                      <a:ext cx="172080" cy="2988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" name="Rectangle 243"/>
                    <p:cNvSpPr/>
                    <p:nvPr/>
                  </p:nvSpPr>
                  <p:spPr>
                    <a:xfrm rot="19039200">
                      <a:off x="46800" y="6608880"/>
                      <a:ext cx="172080" cy="2988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8" name="Group 244"/>
                  <p:cNvGrpSpPr/>
                  <p:nvPr/>
                </p:nvGrpSpPr>
                <p:grpSpPr>
                  <a:xfrm>
                    <a:off x="131400" y="6382080"/>
                    <a:ext cx="207360" cy="205200"/>
                    <a:chOff x="131400" y="6382080"/>
                    <a:chExt cx="207360" cy="205200"/>
                  </a:xfrm>
                </p:grpSpPr>
                <p:sp>
                  <p:nvSpPr>
                    <p:cNvPr id="279" name="Rectangle 245"/>
                    <p:cNvSpPr/>
                    <p:nvPr/>
                  </p:nvSpPr>
                  <p:spPr>
                    <a:xfrm rot="13639200">
                      <a:off x="115920" y="6500880"/>
                      <a:ext cx="165960" cy="3024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560" bIns="-16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Rectangle 246"/>
                    <p:cNvSpPr/>
                    <p:nvPr/>
                  </p:nvSpPr>
                  <p:spPr>
                    <a:xfrm rot="13639200">
                      <a:off x="152640" y="6470280"/>
                      <a:ext cx="165960" cy="3024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560" bIns="-16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Rectangle 247"/>
                    <p:cNvSpPr/>
                    <p:nvPr/>
                  </p:nvSpPr>
                  <p:spPr>
                    <a:xfrm rot="13639200">
                      <a:off x="186840" y="6438600"/>
                      <a:ext cx="167400" cy="3024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560" bIns="-16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2" name="Group 248"/>
                  <p:cNvGrpSpPr/>
                  <p:nvPr/>
                </p:nvGrpSpPr>
                <p:grpSpPr>
                  <a:xfrm>
                    <a:off x="106920" y="6615360"/>
                    <a:ext cx="207720" cy="205200"/>
                    <a:chOff x="106920" y="6615360"/>
                    <a:chExt cx="207720" cy="205200"/>
                  </a:xfrm>
                </p:grpSpPr>
                <p:sp>
                  <p:nvSpPr>
                    <p:cNvPr id="283" name="Rectangle 249"/>
                    <p:cNvSpPr/>
                    <p:nvPr/>
                  </p:nvSpPr>
                  <p:spPr>
                    <a:xfrm rot="13639200">
                      <a:off x="91080" y="6734520"/>
                      <a:ext cx="165600" cy="2988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Rectangle 250"/>
                    <p:cNvSpPr/>
                    <p:nvPr/>
                  </p:nvSpPr>
                  <p:spPr>
                    <a:xfrm rot="13639200">
                      <a:off x="128880" y="6703560"/>
                      <a:ext cx="165600" cy="3168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" name="Rectangle 251"/>
                    <p:cNvSpPr/>
                    <p:nvPr/>
                  </p:nvSpPr>
                  <p:spPr>
                    <a:xfrm rot="13639200">
                      <a:off x="163440" y="6671520"/>
                      <a:ext cx="167040" cy="29880"/>
                    </a:xfrm>
                    <a:prstGeom prst="rect">
                      <a:avLst/>
                    </a:prstGeom>
                    <a:solidFill>
                      <a:srgbClr val="ffffff">
                        <a:alpha val="3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4419"/>
                </a:solidFill>
                <a:latin typeface="Optima"/>
              </a:rPr>
              <a:t>Click to edit the title text format</a:t>
            </a:r>
            <a:endParaRPr b="1" lang="en-US" sz="3200" spc="-1" strike="noStrike">
              <a:solidFill>
                <a:srgbClr val="6b4419"/>
              </a:solidFill>
              <a:latin typeface="Opti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71640" y="1413000"/>
            <a:ext cx="792144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6b4419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b4419"/>
                </a:solidFill>
                <a:latin typeface="Optima"/>
              </a:rPr>
              <a:t>Click to edit the outline text format</a:t>
            </a:r>
            <a:endParaRPr b="0" lang="en-US" sz="2400" spc="-1" strike="noStrike">
              <a:solidFill>
                <a:srgbClr val="6b4419"/>
              </a:solidFill>
              <a:latin typeface="Opti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6b4419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b4419"/>
                </a:solidFill>
                <a:latin typeface="Optima"/>
              </a:rPr>
              <a:t>Second Outline Level</a:t>
            </a:r>
            <a:endParaRPr b="0" lang="en-US" sz="2400" spc="-1" strike="noStrike">
              <a:solidFill>
                <a:srgbClr val="6b4419"/>
              </a:solidFill>
              <a:latin typeface="Optima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6b4419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b4419"/>
                </a:solidFill>
                <a:latin typeface="Optima"/>
              </a:rPr>
              <a:t>Third Outline Level</a:t>
            </a:r>
            <a:endParaRPr b="0" lang="en-US" sz="2400" spc="-1" strike="noStrike">
              <a:solidFill>
                <a:srgbClr val="6b4419"/>
              </a:solidFill>
              <a:latin typeface="Optima"/>
            </a:endParaRPr>
          </a:p>
          <a:p>
            <a:pPr lvl="3" marL="1600200" indent="-228600" algn="just">
              <a:spcBef>
                <a:spcPts val="601"/>
              </a:spcBef>
              <a:buClr>
                <a:srgbClr val="6b4419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b4419"/>
                </a:solidFill>
                <a:latin typeface="Optima"/>
              </a:rPr>
              <a:t>Fourth Outline Level</a:t>
            </a:r>
            <a:endParaRPr b="0" lang="en-US" sz="2400" spc="-1" strike="noStrike">
              <a:solidFill>
                <a:srgbClr val="6b4419"/>
              </a:solidFill>
              <a:latin typeface="Optima"/>
            </a:endParaRPr>
          </a:p>
          <a:p>
            <a:pPr lvl="4" marL="2057400" indent="-228600" algn="just">
              <a:spcBef>
                <a:spcPts val="601"/>
              </a:spcBef>
              <a:buClr>
                <a:srgbClr val="6b4419"/>
              </a:buClr>
              <a:buFont typeface="Opti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b4419"/>
                </a:solidFill>
                <a:latin typeface="Optima"/>
              </a:rPr>
              <a:t>Fifth Outline Level</a:t>
            </a:r>
            <a:endParaRPr b="0" lang="en-US" sz="2400" spc="-1" strike="noStrike">
              <a:solidFill>
                <a:srgbClr val="6b4419"/>
              </a:solidFill>
              <a:latin typeface="Optima"/>
            </a:endParaRPr>
          </a:p>
          <a:p>
            <a:pPr lvl="5" marL="2057400" indent="-228600" algn="just">
              <a:spcBef>
                <a:spcPts val="601"/>
              </a:spcBef>
              <a:buClr>
                <a:srgbClr val="000000"/>
              </a:buClr>
              <a:buFont typeface="Opti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b4419"/>
                </a:solidFill>
                <a:latin typeface="Optima"/>
              </a:rPr>
              <a:t>Sixth Outline Level</a:t>
            </a:r>
            <a:endParaRPr b="0" lang="en-US" sz="2400" spc="-1" strike="noStrike">
              <a:solidFill>
                <a:srgbClr val="6b4419"/>
              </a:solidFill>
              <a:latin typeface="Optima"/>
            </a:endParaRPr>
          </a:p>
          <a:p>
            <a:pPr lvl="6" marL="2057400" indent="-228600" algn="just">
              <a:spcBef>
                <a:spcPts val="601"/>
              </a:spcBef>
              <a:buClr>
                <a:srgbClr val="000000"/>
              </a:buClr>
              <a:buFont typeface="Opti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b4419"/>
                </a:solidFill>
                <a:latin typeface="Optima"/>
              </a:rPr>
              <a:t>Seventh Outline Level</a:t>
            </a:r>
            <a:endParaRPr b="0" lang="en-US" sz="2400" spc="-1" strike="noStrike">
              <a:solidFill>
                <a:srgbClr val="6b4419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hyperlink" Target="http://www.cife.ws/" TargetMode="External"/><Relationship Id="rId5" Type="http://schemas.openxmlformats.org/officeDocument/2006/relationships/hyperlink" Target="http://www.viveduc.cl/" TargetMode="External"/><Relationship Id="rId6" Type="http://schemas.openxmlformats.org/officeDocument/2006/relationships/hyperlink" Target="http://www.exiccom.org/" TargetMode="External"/><Relationship Id="rId7" Type="http://schemas.openxmlformats.org/officeDocument/2006/relationships/hyperlink" Target="http://www.ricie.org/" TargetMode="External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mailto:stobon@cife.ws" TargetMode="External"/><Relationship Id="rId2" Type="http://schemas.openxmlformats.org/officeDocument/2006/relationships/hyperlink" Target="http://www.cife.ws/" TargetMode="External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Group 4"/>
          <p:cNvGrpSpPr/>
          <p:nvPr/>
        </p:nvGrpSpPr>
        <p:grpSpPr>
          <a:xfrm>
            <a:off x="785880" y="419040"/>
            <a:ext cx="8107200" cy="6226560"/>
            <a:chOff x="785880" y="419040"/>
            <a:chExt cx="8107200" cy="6226560"/>
          </a:xfrm>
        </p:grpSpPr>
        <p:sp>
          <p:nvSpPr>
            <p:cNvPr id="370" name="Text Box 5"/>
            <p:cNvSpPr/>
            <p:nvPr/>
          </p:nvSpPr>
          <p:spPr>
            <a:xfrm>
              <a:off x="971640" y="1755720"/>
              <a:ext cx="7921440" cy="11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400" spc="-1" strike="noStrike">
                  <a:solidFill>
                    <a:srgbClr val="6b4419"/>
                  </a:solidFill>
                  <a:latin typeface="Optima"/>
                </a:rPr>
                <a:t>PRIMER CONGRESO INTERNACIONAL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Text Box 6"/>
            <p:cNvSpPr/>
            <p:nvPr/>
          </p:nvSpPr>
          <p:spPr>
            <a:xfrm>
              <a:off x="971640" y="2382840"/>
              <a:ext cx="7921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6b4419"/>
                  </a:solidFill>
                  <a:latin typeface="Optima"/>
                </a:rPr>
                <a:t>“</a:t>
              </a:r>
              <a:r>
                <a:rPr b="1" lang="es-MX" sz="2400" spc="-1" strike="noStrike">
                  <a:solidFill>
                    <a:srgbClr val="6b4419"/>
                  </a:solidFill>
                  <a:latin typeface="Optima"/>
                </a:rPr>
                <a:t>COMPETENCIAS EN LA EDUCACIÓN DEL SIGLO XXI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Text Box 7"/>
            <p:cNvSpPr/>
            <p:nvPr/>
          </p:nvSpPr>
          <p:spPr>
            <a:xfrm>
              <a:off x="785880" y="2857680"/>
              <a:ext cx="792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6b4419"/>
                  </a:solidFill>
                  <a:latin typeface="Optima"/>
                </a:rPr>
                <a:t>“</a:t>
              </a:r>
              <a:r>
                <a:rPr b="1" lang="es-MX" sz="2000" spc="-1" strike="noStrike">
                  <a:solidFill>
                    <a:srgbClr val="6b4419"/>
                  </a:solidFill>
                  <a:latin typeface="Optima"/>
                </a:rPr>
                <a:t>Saber hacer para enseñar mejor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Text Box 8"/>
            <p:cNvSpPr/>
            <p:nvPr/>
          </p:nvSpPr>
          <p:spPr>
            <a:xfrm>
              <a:off x="1131840" y="3711600"/>
              <a:ext cx="7215120" cy="175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6b4419"/>
                  </a:solidFill>
                  <a:latin typeface="Optima"/>
                </a:rPr>
                <a:t>CONFERENCIA MAGISTR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6b4419"/>
                  </a:solidFill>
                  <a:latin typeface="Optima"/>
                </a:rPr>
                <a:t>“</a:t>
              </a:r>
              <a:r>
                <a:rPr b="1" lang="es-ES_tradnl" sz="3200" spc="-1" strike="noStrike">
                  <a:solidFill>
                    <a:srgbClr val="6b4419"/>
                  </a:solidFill>
                  <a:latin typeface="Optima"/>
                </a:rPr>
                <a:t>Evaluación por Competencias”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b4419"/>
                  </a:solidFill>
                  <a:latin typeface="Optima"/>
                </a:rPr>
                <a:t>   </a:t>
              </a:r>
              <a:r>
                <a:rPr b="1" lang="es-ES_tradnl" sz="2400" spc="-1" strike="noStrike">
                  <a:solidFill>
                    <a:srgbClr val="6b4419"/>
                  </a:solidFill>
                  <a:latin typeface="Optima"/>
                </a:rPr>
                <a:t>Dr. Sergio Tobón Tobón (Colombia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Text Box 9"/>
            <p:cNvSpPr/>
            <p:nvPr/>
          </p:nvSpPr>
          <p:spPr>
            <a:xfrm>
              <a:off x="971640" y="5961240"/>
              <a:ext cx="792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6b4419"/>
                  </a:solidFill>
                  <a:latin typeface="Optima"/>
                </a:rPr>
                <a:t>Universidad Anáhuac México - Nor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Text Box 10"/>
            <p:cNvSpPr/>
            <p:nvPr/>
          </p:nvSpPr>
          <p:spPr>
            <a:xfrm>
              <a:off x="971640" y="6246720"/>
              <a:ext cx="792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6b4419"/>
                  </a:solidFill>
                  <a:latin typeface="Optima"/>
                </a:rPr>
                <a:t>12 de julio de 2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6" name="Group 11"/>
            <p:cNvGrpSpPr/>
            <p:nvPr/>
          </p:nvGrpSpPr>
          <p:grpSpPr>
            <a:xfrm>
              <a:off x="987480" y="419040"/>
              <a:ext cx="7864200" cy="873000"/>
              <a:chOff x="987480" y="419040"/>
              <a:chExt cx="7864200" cy="873000"/>
            </a:xfrm>
          </p:grpSpPr>
          <p:pic>
            <p:nvPicPr>
              <p:cNvPr id="377" name="Imagen 1" descr="C:\Documents and Settings\capmx102\Escritorio\Logo SEA 10 años.GIF"/>
              <p:cNvPicPr/>
              <p:nvPr/>
            </p:nvPicPr>
            <p:blipFill>
              <a:blip r:embed="rId1"/>
              <a:stretch/>
            </p:blipFill>
            <p:spPr>
              <a:xfrm>
                <a:off x="987480" y="440640"/>
                <a:ext cx="1895040" cy="813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8" name="22 Imagen" descr="Logo Facultad de Educación 30 años.jpg"/>
              <p:cNvPicPr/>
              <p:nvPr/>
            </p:nvPicPr>
            <p:blipFill>
              <a:blip r:embed="rId2"/>
              <a:stretch/>
            </p:blipFill>
            <p:spPr>
              <a:xfrm>
                <a:off x="6725160" y="419040"/>
                <a:ext cx="2126520" cy="87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9" name="Imagen 2" descr="logo"/>
              <p:cNvPicPr/>
              <p:nvPr/>
            </p:nvPicPr>
            <p:blipFill>
              <a:blip r:embed="rId3"/>
              <a:stretch/>
            </p:blipFill>
            <p:spPr>
              <a:xfrm>
                <a:off x="3874320" y="594000"/>
                <a:ext cx="1883880" cy="506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4" name=""/>
          <p:cNvGraphicFramePr/>
          <p:nvPr/>
        </p:nvGraphicFramePr>
        <p:xfrm>
          <a:off x="285840" y="214200"/>
          <a:ext cx="8643960" cy="6431040"/>
        </p:xfrm>
        <a:graphic>
          <a:graphicData uri="http://schemas.openxmlformats.org/drawingml/2006/table">
            <a:tbl>
              <a:tblPr/>
              <a:tblGrid>
                <a:gridCol w="2216160"/>
                <a:gridCol w="3546360"/>
                <a:gridCol w="2881440"/>
              </a:tblGrid>
              <a:tr h="398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Ámbitos esenciales de la evaluación de las competenci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Ámbito de la  evalu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ien la h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cenc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terminar los logros en el aprendizaje, y dar apoy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 docen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C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tablecer el grado de formación de las competencias al final de  determinados ciclos educativos, y tener esto en cuenta para efectos de titul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 equipo de docentes en la institución educati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RO DE EVALUACIÓN EXTERN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aluar las competencias para determinar su posible certificación extern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ros externos independien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tatal-ofi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aluar la calidad de la formación en un estado  o paí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ros del estado o contratados por el Est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GANIZACIÓN o empre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terminar el grado de idoneidad de los integrantes de una organiz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Área de gestión del talento huma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1 Proceso alternativo"/>
          <p:cNvSpPr/>
          <p:nvPr/>
        </p:nvSpPr>
        <p:spPr>
          <a:xfrm>
            <a:off x="1571760" y="2071800"/>
            <a:ext cx="6000480" cy="3143160"/>
          </a:xfrm>
          <a:prstGeom prst="flowChartAlternateProcess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4. ¿Qué es lo primero a tener en cuenta para evaluar las competencia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1 CuadroTexto"/>
          <p:cNvGrpSpPr/>
          <p:nvPr/>
        </p:nvGrpSpPr>
        <p:grpSpPr>
          <a:xfrm>
            <a:off x="974880" y="712800"/>
            <a:ext cx="7261200" cy="1122480"/>
            <a:chOff x="974880" y="712800"/>
            <a:chExt cx="7261200" cy="1122480"/>
          </a:xfrm>
        </p:grpSpPr>
        <p:pic>
          <p:nvPicPr>
            <p:cNvPr id="407" name="1 CuadroTexto" descr=""/>
            <p:cNvPicPr/>
            <p:nvPr/>
          </p:nvPicPr>
          <p:blipFill>
            <a:blip r:embed="rId1"/>
            <a:stretch/>
          </p:blipFill>
          <p:spPr>
            <a:xfrm>
              <a:off x="974880" y="712800"/>
              <a:ext cx="7261200" cy="11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1000080" y="741240"/>
              <a:ext cx="72151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3200" spc="-1" strike="noStrike">
                  <a:solidFill>
                    <a:srgbClr val="000000"/>
                  </a:solidFill>
                  <a:latin typeface="Calibri"/>
                </a:rPr>
                <a:t>ENFOQUE DE LAS COMPETENCIA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09" name="5 Diagrama" descr=""/>
          <p:cNvPicPr/>
          <p:nvPr/>
        </p:nvPicPr>
        <p:blipFill>
          <a:blip r:embed="rId2"/>
          <a:stretch/>
        </p:blipFill>
        <p:spPr>
          <a:xfrm>
            <a:off x="414360" y="1390680"/>
            <a:ext cx="8461440" cy="50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1 Diagrama" descr=""/>
          <p:cNvPicPr/>
          <p:nvPr/>
        </p:nvPicPr>
        <p:blipFill>
          <a:blip r:embed="rId1"/>
          <a:stretch/>
        </p:blipFill>
        <p:spPr>
          <a:xfrm>
            <a:off x="1841400" y="993600"/>
            <a:ext cx="7034400" cy="4870800"/>
          </a:xfrm>
          <a:prstGeom prst="rect">
            <a:avLst/>
          </a:prstGeom>
          <a:ln w="0">
            <a:noFill/>
          </a:ln>
        </p:spPr>
      </p:pic>
      <p:sp>
        <p:nvSpPr>
          <p:cNvPr id="411" name="AutoShape 2"/>
          <p:cNvSpPr/>
          <p:nvPr/>
        </p:nvSpPr>
        <p:spPr>
          <a:xfrm>
            <a:off x="3929040" y="1071720"/>
            <a:ext cx="247680" cy="420480"/>
          </a:xfrm>
          <a:prstGeom prst="rightArrow">
            <a:avLst>
              <a:gd name="adj1" fmla="val 50000"/>
              <a:gd name="adj2" fmla="val 2812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AutoShape 3"/>
          <p:cNvSpPr/>
          <p:nvPr/>
        </p:nvSpPr>
        <p:spPr>
          <a:xfrm>
            <a:off x="6500880" y="1143000"/>
            <a:ext cx="214200" cy="357120"/>
          </a:xfrm>
          <a:prstGeom prst="rightArrow">
            <a:avLst>
              <a:gd name="adj1" fmla="val 50000"/>
              <a:gd name="adj2" fmla="val 2812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6 Flecha izquierda"/>
          <p:cNvSpPr/>
          <p:nvPr/>
        </p:nvSpPr>
        <p:spPr>
          <a:xfrm>
            <a:off x="4000680" y="2571840"/>
            <a:ext cx="285480" cy="35712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d996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7 Flecha izquierda"/>
          <p:cNvSpPr/>
          <p:nvPr/>
        </p:nvSpPr>
        <p:spPr>
          <a:xfrm>
            <a:off x="6500880" y="2500200"/>
            <a:ext cx="285840" cy="35748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d996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10 Estrella de 7 puntas"/>
          <p:cNvSpPr/>
          <p:nvPr/>
        </p:nvSpPr>
        <p:spPr>
          <a:xfrm>
            <a:off x="214200" y="2000160"/>
            <a:ext cx="1643040" cy="2143080"/>
          </a:xfrm>
          <a:prstGeom prst="pie">
            <a:avLst/>
          </a:prstGeom>
          <a:solidFill>
            <a:srgbClr val="ccff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</a:rPr>
              <a:t>PENSA-MIENTO COMPLEJ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13 Llamada rectangular redondeada"/>
          <p:cNvSpPr/>
          <p:nvPr/>
        </p:nvSpPr>
        <p:spPr>
          <a:xfrm>
            <a:off x="6500880" y="5572080"/>
            <a:ext cx="2357280" cy="1143000"/>
          </a:xfrm>
          <a:prstGeom prst="wedgeRoundRectCallout">
            <a:avLst>
              <a:gd name="adj1" fmla="val 6560"/>
              <a:gd name="adj2" fmla="val -81064"/>
              <a:gd name="adj3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M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Formación integr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desde la perso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8 Rectángulo redondeado"/>
          <p:cNvSpPr/>
          <p:nvPr/>
        </p:nvSpPr>
        <p:spPr>
          <a:xfrm>
            <a:off x="1928880" y="285840"/>
            <a:ext cx="6858000" cy="50004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0000"/>
                </a:solidFill>
                <a:latin typeface="Calibri"/>
              </a:rPr>
              <a:t>Persona humana en su tot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9 CuadroTexto"/>
          <p:cNvSpPr/>
          <p:nvPr/>
        </p:nvSpPr>
        <p:spPr>
          <a:xfrm>
            <a:off x="142920" y="285840"/>
            <a:ext cx="142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Enfoque comple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11 CuadroTexto"/>
          <p:cNvSpPr/>
          <p:nvPr/>
        </p:nvSpPr>
        <p:spPr>
          <a:xfrm>
            <a:off x="428760" y="6068880"/>
            <a:ext cx="535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Referencia: Tobón (2008). Competencias y ciclos propedéuticos. Cif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1 Proceso alternativo"/>
          <p:cNvSpPr/>
          <p:nvPr/>
        </p:nvSpPr>
        <p:spPr>
          <a:xfrm>
            <a:off x="1571760" y="2071800"/>
            <a:ext cx="6000480" cy="3143160"/>
          </a:xfrm>
          <a:prstGeom prst="flowChartAlternateProcess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5. ¿Cómo es la metodología de la evaluación de competencia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1 CuadroTexto"/>
          <p:cNvSpPr/>
          <p:nvPr/>
        </p:nvSpPr>
        <p:spPr>
          <a:xfrm>
            <a:off x="642960" y="773280"/>
            <a:ext cx="8143920" cy="58140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Times New Roman"/>
              </a:rPr>
              <a:t>Pasos esenciales en la evalu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2 CuadroTexto"/>
          <p:cNvSpPr/>
          <p:nvPr/>
        </p:nvSpPr>
        <p:spPr>
          <a:xfrm>
            <a:off x="642960" y="1884240"/>
            <a:ext cx="264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PASO 1: ¿Qué evaluar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3 Flecha derecha"/>
          <p:cNvSpPr/>
          <p:nvPr/>
        </p:nvSpPr>
        <p:spPr>
          <a:xfrm>
            <a:off x="3500280" y="2170080"/>
            <a:ext cx="1571760" cy="28584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4 CuadroTexto"/>
          <p:cNvSpPr/>
          <p:nvPr/>
        </p:nvSpPr>
        <p:spPr>
          <a:xfrm>
            <a:off x="5429160" y="2787480"/>
            <a:ext cx="314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Para formar y valorar la idoneid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5 CuadroTexto"/>
          <p:cNvSpPr/>
          <p:nvPr/>
        </p:nvSpPr>
        <p:spPr>
          <a:xfrm>
            <a:off x="642960" y="3000240"/>
            <a:ext cx="214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PASO 2: ¿Para qué evalu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6 Flecha derecha"/>
          <p:cNvSpPr/>
          <p:nvPr/>
        </p:nvSpPr>
        <p:spPr>
          <a:xfrm>
            <a:off x="3500280" y="3002040"/>
            <a:ext cx="1571760" cy="28584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8 CuadroTexto"/>
          <p:cNvSpPr/>
          <p:nvPr/>
        </p:nvSpPr>
        <p:spPr>
          <a:xfrm>
            <a:off x="5429160" y="1785960"/>
            <a:ext cx="335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Saberes de la compe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9 CuadroTexto"/>
          <p:cNvSpPr/>
          <p:nvPr/>
        </p:nvSpPr>
        <p:spPr>
          <a:xfrm>
            <a:off x="642960" y="4071960"/>
            <a:ext cx="25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PASO 3: ¿Con qué criteri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10 Flecha derecha"/>
          <p:cNvSpPr/>
          <p:nvPr/>
        </p:nvSpPr>
        <p:spPr>
          <a:xfrm>
            <a:off x="3500280" y="4071960"/>
            <a:ext cx="1571760" cy="28584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11 CuadroTexto"/>
          <p:cNvSpPr/>
          <p:nvPr/>
        </p:nvSpPr>
        <p:spPr>
          <a:xfrm>
            <a:off x="5429160" y="3884760"/>
            <a:ext cx="307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Logros esperados en la compe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12 CuadroTexto"/>
          <p:cNvSpPr/>
          <p:nvPr/>
        </p:nvSpPr>
        <p:spPr>
          <a:xfrm>
            <a:off x="642960" y="5170320"/>
            <a:ext cx="25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PASO 4: ¿Con qué prueb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13 Flecha derecha"/>
          <p:cNvSpPr/>
          <p:nvPr/>
        </p:nvSpPr>
        <p:spPr>
          <a:xfrm>
            <a:off x="3500280" y="5286240"/>
            <a:ext cx="1571760" cy="28584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14 CuadroTexto"/>
          <p:cNvSpPr/>
          <p:nvPr/>
        </p:nvSpPr>
        <p:spPr>
          <a:xfrm>
            <a:off x="5500800" y="5072040"/>
            <a:ext cx="321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Evidencias concretas de aprendiz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1 CuadroTexto"/>
          <p:cNvSpPr/>
          <p:nvPr/>
        </p:nvSpPr>
        <p:spPr>
          <a:xfrm>
            <a:off x="642960" y="500040"/>
            <a:ext cx="8072280" cy="52056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imes New Roman"/>
              </a:rPr>
              <a:t>El proceso de evaluación paso a pa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2 CuadroTexto"/>
          <p:cNvSpPr/>
          <p:nvPr/>
        </p:nvSpPr>
        <p:spPr>
          <a:xfrm>
            <a:off x="571680" y="2786040"/>
            <a:ext cx="264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PASO 6: ¿En qué momentos evaluar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3 Flecha derecha"/>
          <p:cNvSpPr/>
          <p:nvPr/>
        </p:nvSpPr>
        <p:spPr>
          <a:xfrm>
            <a:off x="3500280" y="1785960"/>
            <a:ext cx="1571760" cy="28584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4 CuadroTexto"/>
          <p:cNvSpPr/>
          <p:nvPr/>
        </p:nvSpPr>
        <p:spPr>
          <a:xfrm>
            <a:off x="5429160" y="2644920"/>
            <a:ext cx="314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Diagnóstico, Formativa, Promoción y Acredi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5 CuadroTexto"/>
          <p:cNvSpPr/>
          <p:nvPr/>
        </p:nvSpPr>
        <p:spPr>
          <a:xfrm>
            <a:off x="642960" y="4027320"/>
            <a:ext cx="242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PASO 7: ¿Con qué estrategi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6 Flecha derecha"/>
          <p:cNvSpPr/>
          <p:nvPr/>
        </p:nvSpPr>
        <p:spPr>
          <a:xfrm>
            <a:off x="3500280" y="3071880"/>
            <a:ext cx="1571760" cy="28584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8 CuadroTexto"/>
          <p:cNvSpPr/>
          <p:nvPr/>
        </p:nvSpPr>
        <p:spPr>
          <a:xfrm>
            <a:off x="5429160" y="1609560"/>
            <a:ext cx="33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Matrices de evalu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10 Flecha derecha"/>
          <p:cNvSpPr/>
          <p:nvPr/>
        </p:nvSpPr>
        <p:spPr>
          <a:xfrm>
            <a:off x="3500280" y="4286160"/>
            <a:ext cx="1571760" cy="28584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11 CuadroTexto"/>
          <p:cNvSpPr/>
          <p:nvPr/>
        </p:nvSpPr>
        <p:spPr>
          <a:xfrm>
            <a:off x="5500800" y="4027320"/>
            <a:ext cx="328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Pruebas, portafolio, observación, simulacione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12 CuadroTexto"/>
          <p:cNvSpPr/>
          <p:nvPr/>
        </p:nvSpPr>
        <p:spPr>
          <a:xfrm>
            <a:off x="571680" y="1357200"/>
            <a:ext cx="25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PASO 5: ¿Cómo determinar el nivel de aprendizaj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19 CuadroTexto"/>
          <p:cNvSpPr/>
          <p:nvPr/>
        </p:nvSpPr>
        <p:spPr>
          <a:xfrm>
            <a:off x="571680" y="5357880"/>
            <a:ext cx="25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PASO 8: ¿Cómo inform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20 Flecha derecha"/>
          <p:cNvSpPr/>
          <p:nvPr/>
        </p:nvSpPr>
        <p:spPr>
          <a:xfrm>
            <a:off x="3500280" y="5715000"/>
            <a:ext cx="1571760" cy="28584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21 CuadroTexto"/>
          <p:cNvSpPr/>
          <p:nvPr/>
        </p:nvSpPr>
        <p:spPr>
          <a:xfrm>
            <a:off x="5500800" y="53722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Logros, aspectos a mejorar y nivel de aprendiz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62000">
    <p:wheel spokes="1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1 Bisel"/>
          <p:cNvSpPr/>
          <p:nvPr/>
        </p:nvSpPr>
        <p:spPr>
          <a:xfrm>
            <a:off x="1714680" y="1571760"/>
            <a:ext cx="6429240" cy="3786120"/>
          </a:xfrm>
          <a:prstGeom prst="bevel">
            <a:avLst>
              <a:gd name="adj" fmla="val 12500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000000"/>
                </a:solidFill>
                <a:latin typeface="Calibri"/>
              </a:rPr>
              <a:t>Paso 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000000"/>
                </a:solidFill>
                <a:latin typeface="Calibri"/>
              </a:rPr>
              <a:t>¿QUÉ EVALUA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0000"/>
                </a:solidFill>
                <a:latin typeface="Calibri"/>
              </a:rPr>
              <a:t>Respuesta: La competencia y sus sabe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2"/>
          <p:cNvSpPr/>
          <p:nvPr/>
        </p:nvSpPr>
        <p:spPr>
          <a:xfrm>
            <a:off x="785880" y="214200"/>
            <a:ext cx="7500960" cy="785880"/>
          </a:xfrm>
          <a:prstGeom prst="rect">
            <a:avLst/>
          </a:prstGeom>
          <a:solidFill>
            <a:srgbClr val="f2f2f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COMPETENCIA: ACTUACIÓN INTEGRAL CON IDONEIDAD Y É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AutoShape 74"/>
          <p:cNvSpPr/>
          <p:nvPr/>
        </p:nvSpPr>
        <p:spPr>
          <a:xfrm>
            <a:off x="1197000" y="1293840"/>
            <a:ext cx="6386400" cy="4406760"/>
          </a:xfrm>
          <a:prstGeom prst="triangle">
            <a:avLst>
              <a:gd name="adj" fmla="val 49995"/>
            </a:avLst>
          </a:prstGeom>
          <a:solidFill>
            <a:srgbClr val="fcfeb9"/>
          </a:solidFill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75"/>
          <p:cNvSpPr/>
          <p:nvPr/>
        </p:nvSpPr>
        <p:spPr>
          <a:xfrm rot="3391800">
            <a:off x="4588200" y="3258720"/>
            <a:ext cx="1886760" cy="393840"/>
          </a:xfrm>
          <a:prstGeom prst="rect">
            <a:avLst/>
          </a:prstGeom>
          <a:noFill/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SABER HA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AutoShape 76"/>
          <p:cNvSpPr/>
          <p:nvPr/>
        </p:nvSpPr>
        <p:spPr>
          <a:xfrm>
            <a:off x="2492280" y="2131920"/>
            <a:ext cx="3721320" cy="2959200"/>
          </a:xfrm>
          <a:prstGeom prst="triangle">
            <a:avLst>
              <a:gd name="adj" fmla="val 49995"/>
            </a:avLst>
          </a:prstGeom>
          <a:solidFill>
            <a:srgbClr val="f2f2f2"/>
          </a:solidFill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0000"/>
                </a:solidFill>
                <a:latin typeface="Times New Roman"/>
              </a:rPr>
              <a:t>M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0000"/>
                </a:solidFill>
                <a:latin typeface="Times New Roman"/>
              </a:rPr>
              <a:t>COGN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77"/>
          <p:cNvSpPr/>
          <p:nvPr/>
        </p:nvSpPr>
        <p:spPr>
          <a:xfrm rot="18174000">
            <a:off x="2037240" y="3384720"/>
            <a:ext cx="2216160" cy="393840"/>
          </a:xfrm>
          <a:prstGeom prst="rect">
            <a:avLst/>
          </a:prstGeom>
          <a:noFill/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Saber CONO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78"/>
          <p:cNvSpPr/>
          <p:nvPr/>
        </p:nvSpPr>
        <p:spPr>
          <a:xfrm>
            <a:off x="3644280" y="5256360"/>
            <a:ext cx="1495080" cy="393840"/>
          </a:xfrm>
          <a:prstGeom prst="rect">
            <a:avLst/>
          </a:prstGeom>
          <a:solidFill>
            <a:srgbClr val="ffffcc"/>
          </a:solidFill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SABER 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Line 80"/>
          <p:cNvSpPr/>
          <p:nvPr/>
        </p:nvSpPr>
        <p:spPr>
          <a:xfrm flipV="1">
            <a:off x="1687680" y="1674720"/>
            <a:ext cx="1477800" cy="1828800"/>
          </a:xfrm>
          <a:prstGeom prst="line">
            <a:avLst/>
          </a:prstGeom>
          <a:ln w="22320">
            <a:solidFill>
              <a:srgbClr val="4f81bd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Line 81"/>
          <p:cNvSpPr/>
          <p:nvPr/>
        </p:nvSpPr>
        <p:spPr>
          <a:xfrm flipH="1" flipV="1">
            <a:off x="6048000" y="1827360"/>
            <a:ext cx="1336680" cy="1828800"/>
          </a:xfrm>
          <a:prstGeom prst="line">
            <a:avLst/>
          </a:prstGeom>
          <a:ln w="22320">
            <a:solidFill>
              <a:srgbClr val="4f81bd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Group 82"/>
          <p:cNvGrpSpPr/>
          <p:nvPr/>
        </p:nvGrpSpPr>
        <p:grpSpPr>
          <a:xfrm>
            <a:off x="703440" y="4494240"/>
            <a:ext cx="591840" cy="1599840"/>
            <a:chOff x="703440" y="4494240"/>
            <a:chExt cx="591840" cy="1599840"/>
          </a:xfrm>
        </p:grpSpPr>
        <p:sp>
          <p:nvSpPr>
            <p:cNvPr id="457" name="Line 83"/>
            <p:cNvSpPr/>
            <p:nvPr/>
          </p:nvSpPr>
          <p:spPr>
            <a:xfrm flipH="1">
              <a:off x="703440" y="6087960"/>
              <a:ext cx="591840" cy="0"/>
            </a:xfrm>
            <a:prstGeom prst="line">
              <a:avLst/>
            </a:prstGeom>
            <a:ln w="2232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84"/>
            <p:cNvSpPr/>
            <p:nvPr/>
          </p:nvSpPr>
          <p:spPr>
            <a:xfrm flipV="1">
              <a:off x="709560" y="5023440"/>
              <a:ext cx="0" cy="1070640"/>
            </a:xfrm>
            <a:prstGeom prst="line">
              <a:avLst/>
            </a:prstGeom>
            <a:ln w="2232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85"/>
            <p:cNvSpPr/>
            <p:nvPr/>
          </p:nvSpPr>
          <p:spPr>
            <a:xfrm flipV="1">
              <a:off x="715320" y="4494240"/>
              <a:ext cx="495000" cy="541440"/>
            </a:xfrm>
            <a:prstGeom prst="line">
              <a:avLst/>
            </a:prstGeom>
            <a:ln w="22320">
              <a:solidFill>
                <a:srgbClr val="4f81bd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" name="Group 86"/>
          <p:cNvGrpSpPr/>
          <p:nvPr/>
        </p:nvGrpSpPr>
        <p:grpSpPr>
          <a:xfrm>
            <a:off x="7877160" y="4494240"/>
            <a:ext cx="609120" cy="1612440"/>
            <a:chOff x="7877160" y="4494240"/>
            <a:chExt cx="609120" cy="1612440"/>
          </a:xfrm>
        </p:grpSpPr>
        <p:sp>
          <p:nvSpPr>
            <p:cNvPr id="461" name="Line 87"/>
            <p:cNvSpPr/>
            <p:nvPr/>
          </p:nvSpPr>
          <p:spPr>
            <a:xfrm>
              <a:off x="7877160" y="6100560"/>
              <a:ext cx="596520" cy="0"/>
            </a:xfrm>
            <a:prstGeom prst="line">
              <a:avLst/>
            </a:prstGeom>
            <a:ln w="2232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88"/>
            <p:cNvSpPr/>
            <p:nvPr/>
          </p:nvSpPr>
          <p:spPr>
            <a:xfrm flipV="1">
              <a:off x="8480160" y="5027400"/>
              <a:ext cx="0" cy="1079280"/>
            </a:xfrm>
            <a:prstGeom prst="line">
              <a:avLst/>
            </a:prstGeom>
            <a:ln w="2232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89"/>
            <p:cNvSpPr/>
            <p:nvPr/>
          </p:nvSpPr>
          <p:spPr>
            <a:xfrm flipH="1" flipV="1">
              <a:off x="7940520" y="4494240"/>
              <a:ext cx="545760" cy="545760"/>
            </a:xfrm>
            <a:prstGeom prst="line">
              <a:avLst/>
            </a:prstGeom>
            <a:ln w="22320">
              <a:solidFill>
                <a:srgbClr val="4f81bd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Text Box 90"/>
          <p:cNvSpPr/>
          <p:nvPr/>
        </p:nvSpPr>
        <p:spPr>
          <a:xfrm>
            <a:off x="3125880" y="5942160"/>
            <a:ext cx="2430000" cy="337320"/>
          </a:xfrm>
          <a:prstGeom prst="rect">
            <a:avLst/>
          </a:prstGeom>
          <a:solidFill>
            <a:srgbClr val="ffffc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ACTITUDES Y VAL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Rectangle 92"/>
          <p:cNvSpPr/>
          <p:nvPr/>
        </p:nvSpPr>
        <p:spPr>
          <a:xfrm rot="3300000">
            <a:off x="4433760" y="3162600"/>
            <a:ext cx="4313160" cy="454680"/>
          </a:xfrm>
          <a:prstGeom prst="rect">
            <a:avLst/>
          </a:prstGeom>
          <a:solidFill>
            <a:srgbClr val="ffffcc"/>
          </a:solidFill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ROCEDIMIENTOS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Y 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 Box 93"/>
          <p:cNvSpPr/>
          <p:nvPr/>
        </p:nvSpPr>
        <p:spPr>
          <a:xfrm>
            <a:off x="99720" y="6500880"/>
            <a:ext cx="981720" cy="241200"/>
          </a:xfrm>
          <a:prstGeom prst="rect">
            <a:avLst/>
          </a:prstGeom>
          <a:noFill/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OBON,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95"/>
          <p:cNvSpPr/>
          <p:nvPr/>
        </p:nvSpPr>
        <p:spPr>
          <a:xfrm rot="18468600">
            <a:off x="251640" y="2814480"/>
            <a:ext cx="4654440" cy="454680"/>
          </a:xfrm>
          <a:prstGeom prst="rect">
            <a:avLst/>
          </a:prstGeom>
          <a:solidFill>
            <a:srgbClr val="ffffcc"/>
          </a:solidFill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OMPRENSIÓN Y 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APROPI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15 Rectángulo"/>
          <p:cNvSpPr/>
          <p:nvPr/>
        </p:nvSpPr>
        <p:spPr>
          <a:xfrm>
            <a:off x="1285920" y="1214280"/>
            <a:ext cx="6572160" cy="2857680"/>
          </a:xfrm>
          <a:prstGeom prst="rect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7"/>
          <p:cNvSpPr/>
          <p:nvPr/>
        </p:nvSpPr>
        <p:spPr>
          <a:xfrm>
            <a:off x="2928960" y="4836960"/>
            <a:ext cx="2098800" cy="1306800"/>
          </a:xfrm>
          <a:prstGeom prst="rect">
            <a:avLst/>
          </a:prstGeom>
          <a:solidFill>
            <a:srgbClr val="f2f2f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7628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_tradnl" sz="4000" spc="-1" strike="noStrike">
                <a:solidFill>
                  <a:srgbClr val="000000"/>
                </a:solidFill>
                <a:latin typeface="Calibri"/>
              </a:rPr>
              <a:t>Módu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10"/>
          <p:cNvSpPr/>
          <p:nvPr/>
        </p:nvSpPr>
        <p:spPr>
          <a:xfrm>
            <a:off x="1500120" y="2735280"/>
            <a:ext cx="2428920" cy="1050840"/>
          </a:xfrm>
          <a:prstGeom prst="rect">
            <a:avLst/>
          </a:prstGeom>
          <a:solidFill>
            <a:srgbClr val="f2f2f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7628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Compet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14"/>
          <p:cNvSpPr/>
          <p:nvPr/>
        </p:nvSpPr>
        <p:spPr>
          <a:xfrm>
            <a:off x="5226120" y="2714760"/>
            <a:ext cx="2060640" cy="1071360"/>
          </a:xfrm>
          <a:prstGeom prst="rect">
            <a:avLst/>
          </a:prstGeom>
          <a:solidFill>
            <a:srgbClr val="f2f2f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7628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Criterios 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desempeñ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AutoShape 15"/>
          <p:cNvSpPr/>
          <p:nvPr/>
        </p:nvSpPr>
        <p:spPr>
          <a:xfrm rot="5400000">
            <a:off x="4333680" y="2976480"/>
            <a:ext cx="431640" cy="615960"/>
          </a:xfrm>
          <a:prstGeom prst="upArrow">
            <a:avLst>
              <a:gd name="adj1" fmla="val 50000"/>
              <a:gd name="adj2" fmla="val 53315"/>
            </a:avLst>
          </a:prstGeom>
          <a:solidFill>
            <a:srgbClr val="ffff99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19 Llamada ovalada"/>
          <p:cNvSpPr/>
          <p:nvPr/>
        </p:nvSpPr>
        <p:spPr>
          <a:xfrm>
            <a:off x="5500800" y="4714920"/>
            <a:ext cx="3429000" cy="1214280"/>
          </a:xfrm>
          <a:prstGeom prst="wedgeEllipseCallout">
            <a:avLst>
              <a:gd name="adj1" fmla="val -60615"/>
              <a:gd name="adj2" fmla="val -17393"/>
            </a:avLst>
          </a:prstGeom>
          <a:solidFill>
            <a:srgbClr val="f2f2f2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libri"/>
              </a:rPr>
              <a:t>Se recomienda una competencia específica por cada módu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20 CuadroTexto"/>
          <p:cNvSpPr/>
          <p:nvPr/>
        </p:nvSpPr>
        <p:spPr>
          <a:xfrm>
            <a:off x="7143840" y="623880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www.cife.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stobon@cife.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17 Flecha derecha"/>
          <p:cNvSpPr/>
          <p:nvPr/>
        </p:nvSpPr>
        <p:spPr>
          <a:xfrm rot="5400000">
            <a:off x="3464280" y="2250000"/>
            <a:ext cx="428400" cy="357480"/>
          </a:xfrm>
          <a:prstGeom prst="rightArrow">
            <a:avLst>
              <a:gd name="adj1" fmla="val 50000"/>
              <a:gd name="adj2" fmla="val 49933"/>
            </a:avLst>
          </a:prstGeom>
          <a:solidFill>
            <a:srgbClr val="ffffff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1 CuadroTexto"/>
          <p:cNvSpPr/>
          <p:nvPr/>
        </p:nvSpPr>
        <p:spPr>
          <a:xfrm>
            <a:off x="3429000" y="1538280"/>
            <a:ext cx="2286000" cy="45972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0000"/>
                </a:solidFill>
                <a:latin typeface="Calibri"/>
              </a:rPr>
              <a:t>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1 CuadroTexto"/>
          <p:cNvSpPr/>
          <p:nvPr/>
        </p:nvSpPr>
        <p:spPr>
          <a:xfrm>
            <a:off x="2851200" y="324000"/>
            <a:ext cx="3244680" cy="45972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0000"/>
                </a:solidFill>
                <a:latin typeface="Calibri"/>
              </a:rPr>
              <a:t>MODELO COMPLE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20 Flecha derecha"/>
          <p:cNvSpPr/>
          <p:nvPr/>
        </p:nvSpPr>
        <p:spPr>
          <a:xfrm rot="5400000">
            <a:off x="3785760" y="4214880"/>
            <a:ext cx="428760" cy="5713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22 Flecha derecha"/>
          <p:cNvSpPr/>
          <p:nvPr/>
        </p:nvSpPr>
        <p:spPr>
          <a:xfrm rot="5400000">
            <a:off x="5250240" y="2250000"/>
            <a:ext cx="428400" cy="357480"/>
          </a:xfrm>
          <a:prstGeom prst="rightArrow">
            <a:avLst>
              <a:gd name="adj1" fmla="val 50000"/>
              <a:gd name="adj2" fmla="val 49933"/>
            </a:avLst>
          </a:prstGeom>
          <a:solidFill>
            <a:srgbClr val="ffffff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13 Rectángulo"/>
          <p:cNvSpPr/>
          <p:nvPr/>
        </p:nvSpPr>
        <p:spPr>
          <a:xfrm>
            <a:off x="214200" y="6407280"/>
            <a:ext cx="6500880" cy="30708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Referencia: Tobón (2008). Competencias y ciclos propedéuticos. Cif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071440" y="1643040"/>
            <a:ext cx="7000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Evaluación de las competencias. </a:t>
            </a:r>
            <a:br>
              <a:rPr sz="3200"/>
            </a:b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El enfoque complej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81" name="Object 5"/>
          <p:cNvGraphicFramePr/>
          <p:nvPr/>
        </p:nvGraphicFramePr>
        <p:xfrm>
          <a:off x="5315040" y="714240"/>
          <a:ext cx="2400120" cy="78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5040" y="714240"/>
                    <a:ext cx="2400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3" name="4 CuadroTexto"/>
          <p:cNvSpPr/>
          <p:nvPr/>
        </p:nvSpPr>
        <p:spPr>
          <a:xfrm>
            <a:off x="2071800" y="4000680"/>
            <a:ext cx="4000320" cy="2350080"/>
          </a:xfrm>
          <a:prstGeom prst="rect">
            <a:avLst/>
          </a:prstGeom>
          <a:solidFill>
            <a:srgbClr val="ccffcc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0000"/>
                </a:solidFill>
                <a:latin typeface="Times New Roman"/>
              </a:rPr>
              <a:t>Sergio Tobón, Ph.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Times New Roman"/>
              </a:rPr>
              <a:t>Correo: stobon@cife.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Times New Roman"/>
              </a:rPr>
              <a:t>México DF: Anahu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Times New Roman"/>
              </a:rPr>
              <a:t>Congreso Internacional de Competenc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Times New Roman"/>
              </a:rPr>
              <a:t>Julio 10, 11 y 12 de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4" name="5 Imagen" descr="logo Cife.JPG"/>
          <p:cNvPicPr/>
          <p:nvPr/>
        </p:nvPicPr>
        <p:blipFill>
          <a:blip r:embed="rId3"/>
          <a:stretch/>
        </p:blipFill>
        <p:spPr>
          <a:xfrm>
            <a:off x="2143080" y="701640"/>
            <a:ext cx="2454480" cy="798480"/>
          </a:xfrm>
          <a:prstGeom prst="rect">
            <a:avLst/>
          </a:prstGeom>
          <a:ln w="0">
            <a:noFill/>
          </a:ln>
        </p:spPr>
      </p:pic>
      <p:sp>
        <p:nvSpPr>
          <p:cNvPr id="385" name="6 CuadroTexto"/>
          <p:cNvSpPr/>
          <p:nvPr/>
        </p:nvSpPr>
        <p:spPr>
          <a:xfrm>
            <a:off x="6643800" y="4000680"/>
            <a:ext cx="2071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 u="sng">
                <a:solidFill>
                  <a:srgbClr val="0000ff"/>
                </a:solidFill>
                <a:uFillTx/>
                <a:latin typeface="Times New Roman"/>
                <a:hlinkClick r:id="rId4"/>
              </a:rPr>
              <a:t>www.cife.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 u="sng">
                <a:solidFill>
                  <a:srgbClr val="0000ff"/>
                </a:solidFill>
                <a:uFillTx/>
                <a:latin typeface="Times New Roman"/>
                <a:hlinkClick r:id="rId5"/>
              </a:rPr>
              <a:t>www.viveduc.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 u="sng">
                <a:solidFill>
                  <a:srgbClr val="0000ff"/>
                </a:solidFill>
                <a:uFillTx/>
                <a:latin typeface="Times New Roman"/>
                <a:hlinkClick r:id="rId6"/>
              </a:rPr>
              <a:t>www.exiccom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 u="sng">
                <a:solidFill>
                  <a:srgbClr val="0000ff"/>
                </a:solidFill>
                <a:uFillTx/>
                <a:latin typeface="Times New Roman"/>
                <a:hlinkClick r:id="rId7"/>
              </a:rPr>
              <a:t>www.ricie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1" name=""/>
          <p:cNvGraphicFramePr/>
          <p:nvPr/>
        </p:nvGraphicFramePr>
        <p:xfrm>
          <a:off x="380880" y="714240"/>
          <a:ext cx="8359920" cy="5799240"/>
        </p:xfrm>
        <a:graphic>
          <a:graphicData uri="http://schemas.openxmlformats.org/drawingml/2006/table">
            <a:tbl>
              <a:tblPr/>
              <a:tblGrid>
                <a:gridCol w="8359920"/>
              </a:tblGrid>
              <a:tr h="2654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PROBLEMA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¿Cómo crear proyectos sociales o empresariales que resuelvan los problemas de forma sistémica, y que se sostengan en el tiempo afrontando las dificultades, con base en el proyecto ético de vida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etencia:  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prendimien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54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prender proyectos creativos e innovadores, que contribuyan a identificar, plantear y resolver los problemas sociales y productivos , con base en metodologías sistémicas, que tengan en cuenta el contexto, de acuerdo con un determinado enfoque y metodología de investigació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482" name="2 CuadroTexto"/>
          <p:cNvSpPr/>
          <p:nvPr/>
        </p:nvSpPr>
        <p:spPr>
          <a:xfrm>
            <a:off x="804960" y="142920"/>
            <a:ext cx="75009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Ejemplo de competencia. Enfoque Comple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1 Bisel"/>
          <p:cNvSpPr/>
          <p:nvPr/>
        </p:nvSpPr>
        <p:spPr>
          <a:xfrm>
            <a:off x="1571760" y="1571760"/>
            <a:ext cx="6429240" cy="3786120"/>
          </a:xfrm>
          <a:prstGeom prst="bevel">
            <a:avLst>
              <a:gd name="adj" fmla="val 12500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000000"/>
                </a:solidFill>
                <a:latin typeface="Calibri"/>
              </a:rPr>
              <a:t>Paso 2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000000"/>
                </a:solidFill>
                <a:latin typeface="Calibri"/>
              </a:rPr>
              <a:t>¿PARA QUÉ EVALUA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0000"/>
                </a:solidFill>
                <a:latin typeface="Calibri"/>
              </a:rPr>
              <a:t>Respuesta: Formación integ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1 Diagrama" descr=""/>
          <p:cNvPicPr/>
          <p:nvPr/>
        </p:nvPicPr>
        <p:blipFill>
          <a:blip r:embed="rId1"/>
          <a:stretch/>
        </p:blipFill>
        <p:spPr>
          <a:xfrm>
            <a:off x="1517760" y="324000"/>
            <a:ext cx="6175440" cy="6321240"/>
          </a:xfrm>
          <a:prstGeom prst="rect">
            <a:avLst/>
          </a:prstGeom>
          <a:ln w="0">
            <a:noFill/>
          </a:ln>
        </p:spPr>
      </p:pic>
      <p:sp>
        <p:nvSpPr>
          <p:cNvPr id="485" name="2 Elipse"/>
          <p:cNvSpPr/>
          <p:nvPr/>
        </p:nvSpPr>
        <p:spPr>
          <a:xfrm>
            <a:off x="214200" y="2571840"/>
            <a:ext cx="3143520" cy="19288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1f497d"/>
                </a:solidFill>
                <a:latin typeface="Calibri"/>
              </a:rPr>
              <a:t>Evaluar la competencia de emprend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AutoShape 15"/>
          <p:cNvSpPr/>
          <p:nvPr/>
        </p:nvSpPr>
        <p:spPr>
          <a:xfrm rot="5400000">
            <a:off x="3200760" y="3156840"/>
            <a:ext cx="1071720" cy="615960"/>
          </a:xfrm>
          <a:prstGeom prst="upArrow">
            <a:avLst>
              <a:gd name="adj1" fmla="val 50000"/>
              <a:gd name="adj2" fmla="val 53296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ffffff"/>
                </a:solidFill>
                <a:latin typeface="Calibri"/>
              </a:rPr>
              <a:t>p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1 Bisel"/>
          <p:cNvSpPr/>
          <p:nvPr/>
        </p:nvSpPr>
        <p:spPr>
          <a:xfrm>
            <a:off x="1714680" y="1643040"/>
            <a:ext cx="6429240" cy="3786120"/>
          </a:xfrm>
          <a:prstGeom prst="bevel">
            <a:avLst>
              <a:gd name="adj" fmla="val 12500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000000"/>
                </a:solidFill>
                <a:latin typeface="Calibri"/>
              </a:rPr>
              <a:t>Paso 3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000000"/>
                </a:solidFill>
                <a:latin typeface="Calibri"/>
              </a:rPr>
              <a:t>¿CON QUÉ CRITERIO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0000"/>
                </a:solidFill>
                <a:latin typeface="Calibri"/>
              </a:rPr>
              <a:t>Respuesta: Resultados esperados en la compet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0044ac"/>
                </a:solidFill>
                <a:latin typeface="Calibri"/>
              </a:rPr>
              <a:t>Pautas para establecer los criteri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9" name=""/>
          <p:cNvGraphicFramePr/>
          <p:nvPr/>
        </p:nvGraphicFramePr>
        <p:xfrm>
          <a:off x="485640" y="1428840"/>
          <a:ext cx="8229600" cy="4754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abe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Los criterios deben abordar los diferentes saberes de la competencia en lo posib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Compar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Los criterios deben comparar un qué con una condición de referenc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Clarid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Los criterios deben ser fácilmente comprensibles y clar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Pertinenc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Los criterios deben ser pertinentes al desempeño profesional idóne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014480" y="356760"/>
            <a:ext cx="777240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  <a:ea typeface="Arial"/>
              </a:rPr>
              <a:t>Ejemplo de </a:t>
            </a:r>
            <a:r>
              <a:rPr b="1" lang="es-CO" sz="2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criterios</a:t>
            </a:r>
            <a:r>
              <a:rPr b="0" lang="es-CO" sz="2800" spc="-1" strike="noStrike">
                <a:solidFill>
                  <a:srgbClr val="000000"/>
                </a:solidFill>
                <a:latin typeface="Calibri"/>
                <a:ea typeface="Arial"/>
              </a:rPr>
              <a:t> en la competencia de emprendimien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3 CuadroTexto"/>
          <p:cNvSpPr/>
          <p:nvPr/>
        </p:nvSpPr>
        <p:spPr>
          <a:xfrm>
            <a:off x="1000080" y="1881360"/>
            <a:ext cx="73580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1 Tiene retos personales en campo del emprendimiento, los cuales son coherentes con sus valores, las oportunidades del medio y su proyecto ético de vi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2 Argumenta de forma clara, coherente y pertinente su idea de proyecto, y sabe ofrecerlo a las personas y organizaciones a través de una estrategia pertin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3 Crea o adapta un proyecto de emprendimiento en el campo social o empresarial cuyas metas, estrategias y planificación de recursos son coherentes entre sí, y responden a un reto o probl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1 Bisel"/>
          <p:cNvSpPr/>
          <p:nvPr/>
        </p:nvSpPr>
        <p:spPr>
          <a:xfrm>
            <a:off x="1714680" y="1571760"/>
            <a:ext cx="6429240" cy="3786120"/>
          </a:xfrm>
          <a:prstGeom prst="bevel">
            <a:avLst>
              <a:gd name="adj" fmla="val 12500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000000"/>
                </a:solidFill>
                <a:latin typeface="Calibri"/>
              </a:rPr>
              <a:t>Paso 4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000000"/>
                </a:solidFill>
                <a:latin typeface="Calibri"/>
              </a:rPr>
              <a:t>¿CON QUÉ EVIDENCIA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0000"/>
                </a:solidFill>
                <a:latin typeface="Calibri"/>
              </a:rPr>
              <a:t>Respuesta: Pruebas concretas de aprendizaje que presentan los estudi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826920" y="831960"/>
            <a:ext cx="788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¿Por qué son valiosa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alibri"/>
              </a:rPr>
              <a:t>Son pruebas que presentan los estudiantes  para demostrar sus competencia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alibri"/>
              </a:rPr>
              <a:t>Permiten valorar los criteri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alibri"/>
              </a:rPr>
              <a:t>Permiten organizar el proceso de aprendiza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alibri"/>
              </a:rPr>
              <a:t>Dan claridad a los estudiantes frente a cómo deben demostrar su aprendiza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alibri"/>
              </a:rPr>
              <a:t>Permiten documentar el aprendizaje de los estudiantes a través de un portafoli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Rectangle 3"/>
          <p:cNvSpPr/>
          <p:nvPr/>
        </p:nvSpPr>
        <p:spPr>
          <a:xfrm>
            <a:off x="928800" y="717480"/>
            <a:ext cx="80010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00"/>
                </a:solidFill>
                <a:latin typeface="Century Gothic"/>
              </a:rPr>
              <a:t>Evidenc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-21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f0000"/>
                </a:solidFill>
                <a:latin typeface="Calibri"/>
              </a:rPr>
              <a:t>Tipos de evidenci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6" name=""/>
          <p:cNvGraphicFramePr/>
          <p:nvPr/>
        </p:nvGraphicFramePr>
        <p:xfrm>
          <a:off x="457200" y="714240"/>
          <a:ext cx="8229600" cy="6004080"/>
        </p:xfrm>
        <a:graphic>
          <a:graphicData uri="http://schemas.openxmlformats.org/drawingml/2006/table">
            <a:tbl>
              <a:tblPr/>
              <a:tblGrid>
                <a:gridCol w="3114720"/>
                <a:gridCol w="5114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Ti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1b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Ejempl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1b6ff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Evidencia de CONOCIMIE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Pruebas escritas abier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Pruebas escritas cerrad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Pruebas or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Ensay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Evidencias de HAC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Audios y vide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Testimon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Registro de observacio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Evidencias del S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Registro de actitu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Pruebas de actitu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Autovalor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Sociod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Evidencias de PRODUC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Documentos de produc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Proyec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Informes fin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Obje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Creacio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Servicios prest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4296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500" spc="-1" strike="noStrike">
                <a:solidFill>
                  <a:srgbClr val="000000"/>
                </a:solidFill>
                <a:latin typeface="Calibri"/>
              </a:rPr>
              <a:t>Ejemplo de </a:t>
            </a:r>
            <a:r>
              <a:rPr b="1" lang="es-CO" sz="2500" spc="-1" strike="noStrike" u="sng">
                <a:solidFill>
                  <a:srgbClr val="000000"/>
                </a:solidFill>
                <a:uFillTx/>
                <a:latin typeface="Calibri"/>
              </a:rPr>
              <a:t>evidencias</a:t>
            </a:r>
            <a:r>
              <a:rPr b="0" lang="es-CO" sz="2500" spc="-1" strike="noStrike">
                <a:solidFill>
                  <a:srgbClr val="000000"/>
                </a:solidFill>
                <a:latin typeface="Calibri"/>
              </a:rPr>
              <a:t> en la competencia de emprendimient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8" name=""/>
          <p:cNvGraphicFramePr/>
          <p:nvPr/>
        </p:nvGraphicFramePr>
        <p:xfrm>
          <a:off x="500040" y="1379520"/>
          <a:ext cx="8286840" cy="4907160"/>
        </p:xfrm>
        <a:graphic>
          <a:graphicData uri="http://schemas.openxmlformats.org/drawingml/2006/table">
            <a:tbl>
              <a:tblPr/>
              <a:tblGrid>
                <a:gridCol w="4643640"/>
                <a:gridCol w="2143080"/>
                <a:gridCol w="1500120"/>
              </a:tblGrid>
              <a:tr h="351000"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riter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videnci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onder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402920"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1 Tiene retos personales en campo del emprendimiento, los cuales son coherentes con sus valores, las oportunidades del medio y su proyecto ético de vid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forme de planeación del proyecto ético de vi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402920"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2 Argumenta de forma clara y coherente su idea de proyecto, y sabe ofrecerlo a las personas y organizaciones a través de una estrategia pertinent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gistro del proceso de argumentación oral en públ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753560"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3 Crea o adapta un proyecto de emprendimiento en el campo social o empresarial cuyas metas, estrategias y planificación de recursos son coherentes entre sí, y responden a un reto o problem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forme de un proyecto de emprendimie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5"/>
          <p:cNvSpPr/>
          <p:nvPr/>
        </p:nvSpPr>
        <p:spPr>
          <a:xfrm>
            <a:off x="533520" y="569880"/>
            <a:ext cx="8229600" cy="64260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Verdana"/>
              </a:rPr>
              <a:t>Sugerencias de tare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7"/>
          <p:cNvSpPr/>
          <p:nvPr/>
        </p:nvSpPr>
        <p:spPr>
          <a:xfrm>
            <a:off x="8660880" y="6361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9"/>
          <p:cNvSpPr/>
          <p:nvPr/>
        </p:nvSpPr>
        <p:spPr>
          <a:xfrm>
            <a:off x="0" y="6380280"/>
            <a:ext cx="2209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Tobón,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Cife.w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6 CuadroTexto"/>
          <p:cNvSpPr/>
          <p:nvPr/>
        </p:nvSpPr>
        <p:spPr>
          <a:xfrm>
            <a:off x="914400" y="2239920"/>
            <a:ext cx="769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Vaya reflexionando y tome nota de los aspectos destacados de esta conferencia. Esto le permitirá mejorar su compren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ugerencia: elabore esquemas y mapas con sus reflexion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iense en posibles aplicaciones de esta conferencia con sus estudiant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14400" y="299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Continuación ejemplo de evidencia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642960" y="1233360"/>
          <a:ext cx="8286840" cy="4837320"/>
        </p:xfrm>
        <a:graphic>
          <a:graphicData uri="http://schemas.openxmlformats.org/drawingml/2006/table">
            <a:tbl>
              <a:tblPr/>
              <a:tblGrid>
                <a:gridCol w="4572000"/>
                <a:gridCol w="2143080"/>
                <a:gridCol w="1571760"/>
              </a:tblGrid>
              <a:tr h="981000"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riteri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videnci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ondera-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753560"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4 Argumenta de forma precisa los conceptos de “negocio”, “proyecto social”, “emprendimiento” y “creatividad” con base un determinado mapa gráfic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forme escrito de Cartografía Conceptual sobre conceptos de emprendimie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104200"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5 Ejecuta y evalúa un proyecto de emprendimiento (o una de sus partes) siguiendo un análisis prospectivo, manejando de forma estratégica las situaciones de incertidumbre y las dificultad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forme de ejecución de un proyecto de emprendimient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1 Bisel"/>
          <p:cNvSpPr/>
          <p:nvPr/>
        </p:nvSpPr>
        <p:spPr>
          <a:xfrm>
            <a:off x="1714680" y="1571760"/>
            <a:ext cx="6429240" cy="3786120"/>
          </a:xfrm>
          <a:prstGeom prst="bevel">
            <a:avLst>
              <a:gd name="adj" fmla="val 12500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000000"/>
                </a:solidFill>
                <a:latin typeface="Calibri"/>
              </a:rPr>
              <a:t>Paso 5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000000"/>
                </a:solidFill>
                <a:latin typeface="Calibri"/>
              </a:rPr>
              <a:t>¿CÓMO DETERMINAR EL NIVEL DE APRENDIZAJ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0000"/>
                </a:solidFill>
                <a:latin typeface="Calibri"/>
              </a:rPr>
              <a:t>Respuesta: Mediante matrices de evalu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8564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000000"/>
                </a:solidFill>
                <a:latin typeface="Calibri"/>
              </a:rPr>
              <a:t>Componentes de las Matrices de evalu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3" name=""/>
          <p:cNvGraphicFramePr/>
          <p:nvPr/>
        </p:nvGraphicFramePr>
        <p:xfrm>
          <a:off x="485640" y="1571760"/>
          <a:ext cx="8229600" cy="4572000"/>
        </p:xfrm>
        <a:graphic>
          <a:graphicData uri="http://schemas.openxmlformats.org/drawingml/2006/table">
            <a:tbl>
              <a:tblPr/>
              <a:tblGrid>
                <a:gridCol w="3186360"/>
                <a:gridCol w="50432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Compone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Descrip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rbe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Competenc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Es la competencia a evalu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. Criteri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on los criterios que se tendrán en cuenta en el proce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. Evidenci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on las pruebas a tener en cuen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. Niveles de log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Dan cuenta de niveles de aprendizaje por criterio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5. Puntos o porcentaj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Indican la cuantificación de cada criterio y de cada nivel de log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4" name=""/>
          <p:cNvGraphicFramePr/>
          <p:nvPr/>
        </p:nvGraphicFramePr>
        <p:xfrm>
          <a:off x="357120" y="88920"/>
          <a:ext cx="8572680" cy="6697800"/>
        </p:xfrm>
        <a:graphic>
          <a:graphicData uri="http://schemas.openxmlformats.org/drawingml/2006/table">
            <a:tbl>
              <a:tblPr/>
              <a:tblGrid>
                <a:gridCol w="1827360"/>
                <a:gridCol w="1414440"/>
                <a:gridCol w="1371600"/>
                <a:gridCol w="1481040"/>
                <a:gridCol w="1406520"/>
                <a:gridCol w="1071720"/>
              </a:tblGrid>
              <a:tr h="1641600">
                <a:tc gridSpan="6"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JEMPLO DE MATRIZ PARA UN CRITER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ETENCIA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prender proyectos creativos e innovadores, que contribuyan a identificar, plantear y resolver los problemas sociales y productivos , con base en metodologías sistémicas, que tengan en cuenta el contexto, de acuerdo con un determinado enfoque y metodología de investigació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7160"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piedades de cal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iteri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 evidenci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 excelenc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 cal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vel Medio de Cal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be mejora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ntu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904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 Crea o adapta un proyecto de emprendimiento en el campo social o empresarial cuyas metas, estrategias y planificación de recursos son coherentes entre sí, y responden a un reto o problem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1. Evidencia de producto: Proyecto en papel termin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 proyecto es factible de implementarse acorde con la planeación de recursos, el talento humano disponible y el cronograma establecid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s productos que se esperan del proyectos son altamente pertinentes al contexto, y pueden asegurar el éxito del proyect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s componentes del proyecto están bien redactados y completos acorde con lo esperado en cada apartado del proyecto. Hay coherencia entre todos los componen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 proyecto tiene los componentes esperados y se relaciona con el emprendimient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marL="856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1 Bisel"/>
          <p:cNvSpPr/>
          <p:nvPr/>
        </p:nvSpPr>
        <p:spPr>
          <a:xfrm>
            <a:off x="1714680" y="1571760"/>
            <a:ext cx="6429240" cy="3786120"/>
          </a:xfrm>
          <a:prstGeom prst="bevel">
            <a:avLst>
              <a:gd name="adj" fmla="val 12500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000000"/>
                </a:solidFill>
                <a:latin typeface="Calibri"/>
              </a:rPr>
              <a:t>Paso 6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000000"/>
                </a:solidFill>
                <a:latin typeface="Calibri"/>
              </a:rPr>
              <a:t>¿EN QUÉ MOMENTOS SE EVALÚ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0000"/>
                </a:solidFill>
                <a:latin typeface="Calibri"/>
              </a:rPr>
              <a:t>Respuesta: Al inicio, durante y al final del proc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-143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ff0000"/>
                </a:solidFill>
                <a:latin typeface="Calibri"/>
              </a:rPr>
              <a:t>Momentos de la EVALU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395280" y="714240"/>
          <a:ext cx="8605800" cy="5943600"/>
        </p:xfrm>
        <a:graphic>
          <a:graphicData uri="http://schemas.openxmlformats.org/drawingml/2006/table">
            <a:tbl>
              <a:tblPr/>
              <a:tblGrid>
                <a:gridCol w="2668680"/>
                <a:gridCol w="59371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Tipo de evalu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Característic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Al inicio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DIAGNÓSTI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Evalúa saberes previ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Se pueden acreditar competencia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Durante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FORMATIV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e da en las actividades d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aprendizaje con base en evidenci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Al final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PROMO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Se determina el grado de desarrollo de la competenc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Se informa al estudiante del aprendizaj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En el egresado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CERTIFIC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Se acredita académicamente la competencia en los estudian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Opcionalmente, se puede certificar la competencia desde un centro exter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2876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400" spc="-1" strike="noStrike">
                <a:solidFill>
                  <a:srgbClr val="000000"/>
                </a:solidFill>
                <a:latin typeface="Calibri"/>
              </a:rPr>
              <a:t>Proceso de la evalua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57280" y="1246320"/>
          <a:ext cx="8229600" cy="4968720"/>
        </p:xfrm>
        <a:graphic>
          <a:graphicData uri="http://schemas.openxmlformats.org/drawingml/2006/table">
            <a:tbl>
              <a:tblPr/>
              <a:tblGrid>
                <a:gridCol w="3186000"/>
                <a:gridCol w="5043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F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Característic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AUTO-VALOR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La hace la propia perso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Es metacognitiv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CO-VALOR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La hacen los pa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Es en equip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HETERO-VALOR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La hace el docen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En ocasiones la hacen expert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INTER-VALOR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Integra las anterio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Se hace desde diferentes ámbit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1 Bisel"/>
          <p:cNvSpPr/>
          <p:nvPr/>
        </p:nvSpPr>
        <p:spPr>
          <a:xfrm>
            <a:off x="1714680" y="1571760"/>
            <a:ext cx="6429240" cy="3786120"/>
          </a:xfrm>
          <a:prstGeom prst="bevel">
            <a:avLst>
              <a:gd name="adj" fmla="val 12500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0000"/>
                </a:solidFill>
                <a:latin typeface="Calibri"/>
              </a:rPr>
              <a:t>Paso 7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0000"/>
                </a:solidFill>
                <a:latin typeface="Calibri"/>
              </a:rPr>
              <a:t>¿CON QUÉ ESTRATEGIAS  EVALÚ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0000"/>
                </a:solidFill>
                <a:latin typeface="Calibri"/>
              </a:rPr>
              <a:t>Respuesta: Con diversas estrategias, como pruebas, portafolio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1 Rectángulo"/>
          <p:cNvSpPr/>
          <p:nvPr/>
        </p:nvSpPr>
        <p:spPr>
          <a:xfrm>
            <a:off x="2143080" y="390600"/>
            <a:ext cx="55720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Estrategias de evalu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2" name="3 Diagrama" descr=""/>
          <p:cNvPicPr/>
          <p:nvPr/>
        </p:nvPicPr>
        <p:blipFill>
          <a:blip r:embed="rId1"/>
          <a:stretch/>
        </p:blipFill>
        <p:spPr>
          <a:xfrm>
            <a:off x="407880" y="1279440"/>
            <a:ext cx="846792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1 Bisel"/>
          <p:cNvSpPr/>
          <p:nvPr/>
        </p:nvSpPr>
        <p:spPr>
          <a:xfrm>
            <a:off x="1714680" y="1571760"/>
            <a:ext cx="6429240" cy="3786120"/>
          </a:xfrm>
          <a:prstGeom prst="bevel">
            <a:avLst>
              <a:gd name="adj" fmla="val 12500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0000"/>
                </a:solidFill>
                <a:latin typeface="Calibri"/>
              </a:rPr>
              <a:t>PASO 8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0000"/>
                </a:solidFill>
                <a:latin typeface="Calibri"/>
              </a:rPr>
              <a:t>¿CÓMO INFORM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0000"/>
                </a:solidFill>
                <a:latin typeface="Calibri"/>
              </a:rPr>
              <a:t>Respuesta: Se retroalimenta con base en el nivel de aprendizaje alcanzado, los logros y los aspectos a mejor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4"/>
          <p:cNvSpPr/>
          <p:nvPr/>
        </p:nvSpPr>
        <p:spPr>
          <a:xfrm>
            <a:off x="1071720" y="1330200"/>
            <a:ext cx="7429320" cy="47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¿Qué es la evaluación de las competencia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¿Cuáles son los principios esenciales en la evaluación de las competencia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¿Cuáles son los ámbitos de la evaluación de las competencia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4. ¿Qué es lo primero a tener en cuenta para evaluar las competencia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5. ¿Cómo es la metodología de la evaluación de competencia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6. ¿Cómo puedo continuar mi formación en evaluac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5"/>
          <p:cNvSpPr/>
          <p:nvPr/>
        </p:nvSpPr>
        <p:spPr>
          <a:xfrm>
            <a:off x="1123920" y="415800"/>
            <a:ext cx="716292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Índ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7"/>
          <p:cNvSpPr/>
          <p:nvPr/>
        </p:nvSpPr>
        <p:spPr>
          <a:xfrm>
            <a:off x="71280" y="635796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Tobón, Cife,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Nivel de aprendizaje, logros y aspectos a mejor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5" name=""/>
          <p:cNvGraphicFramePr/>
          <p:nvPr/>
        </p:nvGraphicFramePr>
        <p:xfrm>
          <a:off x="485640" y="1978200"/>
          <a:ext cx="8229600" cy="40226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NIVEL DE APRENDIZAJ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LOG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ASPECTOS A MEJOR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50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Nivel alcanzado a partir de la matriz de evalu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Logros obtenidos teniendo como base la Matriz de Evalu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Aspectos en los cuales debe mejorar la perso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85640" y="356760"/>
            <a:ext cx="8229600" cy="114300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000000"/>
                </a:solidFill>
                <a:latin typeface="Calibri"/>
              </a:rPr>
              <a:t>Ejemplo</a:t>
            </a:r>
            <a:br>
              <a:rPr sz="3200"/>
            </a:br>
            <a:r>
              <a:rPr b="1" lang="es-CO" sz="3200" spc="-1" strike="noStrike">
                <a:solidFill>
                  <a:srgbClr val="000000"/>
                </a:solidFill>
                <a:latin typeface="Calibri"/>
              </a:rPr>
              <a:t>Competencia de emprendimien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7" name=""/>
          <p:cNvGraphicFramePr/>
          <p:nvPr/>
        </p:nvGraphicFramePr>
        <p:xfrm>
          <a:off x="485640" y="1785960"/>
          <a:ext cx="8229600" cy="45417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20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800" spc="-1" strike="noStrike">
                          <a:solidFill>
                            <a:srgbClr val="ffc000"/>
                          </a:solidFill>
                          <a:latin typeface="Corbel"/>
                        </a:rPr>
                        <a:t>Estudiante: Carlos Ocamp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13867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NIVEL DE APRENDIZAJ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LOG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ASPECTOS A MEJOR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50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Nivel IV de la competen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Porcentaje de logro: 8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Nota: 8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Proyecto creativo de emprendimien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Planear de forma más organizada los recursos del proyecto de emprendimien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1 CuadroTexto"/>
          <p:cNvSpPr/>
          <p:nvPr/>
        </p:nvSpPr>
        <p:spPr>
          <a:xfrm>
            <a:off x="642960" y="1146240"/>
            <a:ext cx="7858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s-CO" sz="1800" spc="-1" strike="noStrike">
                <a:solidFill>
                  <a:srgbClr val="000000"/>
                </a:solidFill>
                <a:latin typeface="Calibri"/>
              </a:rPr>
              <a:t>Tobón, Sergio (2006). Formación basada en competencias. Bogotá: Eco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Calibri"/>
              </a:rPr>
              <a:t>Tobón, Sergio, García-Fraile, Juan Antonio, Rial, Antonio y Carretero,  Miguel (2006). Competencias, calidad y educación superior. Bogotá: Magiste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Calibri"/>
              </a:rPr>
              <a:t>Tobón, S. y otros. (2006). Competencias, calidad y educación superior. Bogotá: Magiste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Calibri"/>
              </a:rPr>
              <a:t>Tobón, S. y otros. (2006). El enfoque de las competencias en la educación superior.  Madrid: UC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Calibri"/>
              </a:rPr>
              <a:t>Tobón, Sergio (2008). Diseño sistémico de módulos en la educación superior. Bogotá: Cif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 u="sng">
                <a:solidFill>
                  <a:srgbClr val="000000"/>
                </a:solidFill>
                <a:uFillTx/>
                <a:latin typeface="Calibri"/>
              </a:rPr>
              <a:t>Tobón, Sergio (2008) Gestión curricular y ciclos propedéuticos por competencias. El enfoque complejo en la educación superior. Bogotá: ECOE. Versión e-bo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 u="sng">
                <a:solidFill>
                  <a:srgbClr val="000000"/>
                </a:solidFill>
                <a:uFillTx/>
                <a:latin typeface="Calibri"/>
              </a:rPr>
              <a:t>García Fraile, J.A., Tobón, S., et al. (2008). Un nuevo modelo de formación para el siglo XXI. La enseñanza basada en competencias. Barcelona: Davin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2 CuadroTexto"/>
          <p:cNvSpPr/>
          <p:nvPr/>
        </p:nvSpPr>
        <p:spPr>
          <a:xfrm>
            <a:off x="785880" y="428760"/>
            <a:ext cx="7500960" cy="45972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LGUNAS REFERENCIAS BIBLIOGRÁF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5"/>
          <p:cNvSpPr/>
          <p:nvPr/>
        </p:nvSpPr>
        <p:spPr>
          <a:xfrm>
            <a:off x="533520" y="569880"/>
            <a:ext cx="8229600" cy="64260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Verdana"/>
              </a:rPr>
              <a:t>Sugerencias de tare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7"/>
          <p:cNvSpPr/>
          <p:nvPr/>
        </p:nvSpPr>
        <p:spPr>
          <a:xfrm>
            <a:off x="8660880" y="6361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9"/>
          <p:cNvSpPr/>
          <p:nvPr/>
        </p:nvSpPr>
        <p:spPr>
          <a:xfrm>
            <a:off x="0" y="6380280"/>
            <a:ext cx="2209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Tobón,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Cife.w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6 CuadroTexto"/>
          <p:cNvSpPr/>
          <p:nvPr/>
        </p:nvSpPr>
        <p:spPr>
          <a:xfrm>
            <a:off x="914400" y="1606680"/>
            <a:ext cx="7696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evise sus notas y reflexione sobre ellas. Esto le permitirá mejorar su comprens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e sugiere realizar una matriz de evaluación de competencias para una unidad de aprendizaje. Esto puede ser en equip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nsulte los libros de referencia en cada uno de los temas para tener una mayor profundid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Finalmente, le invitamos a continuar su formación a través de nuestro instituto Cife u otras instituciones como Ricie y Vivedu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1 Rectángulo"/>
          <p:cNvSpPr/>
          <p:nvPr/>
        </p:nvSpPr>
        <p:spPr>
          <a:xfrm>
            <a:off x="1143000" y="1525680"/>
            <a:ext cx="7929720" cy="51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cife.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or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. Sergio Tob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-mail: </a:t>
            </a:r>
            <a:r>
              <a:rPr b="0" lang="es-E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stobon@cife.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director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. Juan Antonio García Fra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idad Compluten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Mad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2 Rectángulo redondeado"/>
          <p:cNvSpPr/>
          <p:nvPr/>
        </p:nvSpPr>
        <p:spPr>
          <a:xfrm>
            <a:off x="4714920" y="1382760"/>
            <a:ext cx="3929040" cy="4714920"/>
          </a:xfrm>
          <a:custGeom>
            <a:avLst/>
            <a:gdLst>
              <a:gd name="textAreaLeft" fmla="*/ 191520 w 3929040"/>
              <a:gd name="textAreaRight" fmla="*/ 3737520 w 3929040"/>
              <a:gd name="textAreaTop" fmla="*/ 191520 h 4714920"/>
              <a:gd name="textAreaBottom" fmla="*/ 4523400 h 4714920"/>
            </a:gdLst>
            <a:ahLst/>
            <a:rect l="textAreaLeft" t="textAreaTop" r="textAreaRight" b="textAreaBottom"/>
            <a:pathLst>
              <a:path w="21600" h="25920">
                <a:moveTo>
                  <a:pt x="3600" y="0"/>
                </a:moveTo>
                <a:arcTo wR="3600" hR="3600" stAng="16200000" swAng="-5400000"/>
                <a:lnTo>
                  <a:pt x="0" y="22320"/>
                </a:lnTo>
                <a:arcTo wR="3600" hR="3600" stAng="10800000" swAng="-5400000"/>
                <a:lnTo>
                  <a:pt x="18000" y="259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Cife es una organización centrada en la investigación sobre currículo, didáctica y evaluación de competencias. Ofrecemos programas especializados de formación así como libros y materiales sobre estos te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6" name="Picture 3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8040" y="285840"/>
            <a:ext cx="332100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1 Proceso alternativo"/>
          <p:cNvSpPr/>
          <p:nvPr/>
        </p:nvSpPr>
        <p:spPr>
          <a:xfrm>
            <a:off x="1571760" y="2071800"/>
            <a:ext cx="6000480" cy="3143160"/>
          </a:xfrm>
          <a:prstGeom prst="flowChartAlternateProcess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800" spc="-1" strike="noStrike">
                <a:solidFill>
                  <a:srgbClr val="000000"/>
                </a:solidFill>
                <a:latin typeface="Calibri"/>
              </a:rPr>
              <a:t>1. ¿Qué es la evaluación de las competencia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2"/>
          <p:cNvSpPr/>
          <p:nvPr/>
        </p:nvSpPr>
        <p:spPr>
          <a:xfrm>
            <a:off x="2556000" y="428760"/>
            <a:ext cx="5413320" cy="94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VALUACIÓN POR COMPETENC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3"/>
          <p:cNvSpPr/>
          <p:nvPr/>
        </p:nvSpPr>
        <p:spPr>
          <a:xfrm>
            <a:off x="3714840" y="1936800"/>
            <a:ext cx="503532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85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 EL PROCESO mediante el cual se recopilan EVIDENCIAS y se realiza un JUICIO o dictamen de esas evidencias teniendo en cuenta CRITERIOS preestablecidos, para dar finalmente una RETROALIMENTACIÓN que busque mejorar la IDONE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6" name="Picture 5" descr="BS00503_"/>
          <p:cNvPicPr/>
          <p:nvPr/>
        </p:nvPicPr>
        <p:blipFill>
          <a:blip r:embed="rId1"/>
          <a:stretch/>
        </p:blipFill>
        <p:spPr>
          <a:xfrm>
            <a:off x="357120" y="2589120"/>
            <a:ext cx="2725920" cy="2743200"/>
          </a:xfrm>
          <a:prstGeom prst="rect">
            <a:avLst/>
          </a:prstGeom>
          <a:ln w="0">
            <a:noFill/>
          </a:ln>
        </p:spPr>
      </p:pic>
      <p:sp>
        <p:nvSpPr>
          <p:cNvPr id="397" name="Rectangle 6"/>
          <p:cNvSpPr/>
          <p:nvPr/>
        </p:nvSpPr>
        <p:spPr>
          <a:xfrm>
            <a:off x="133200" y="4875120"/>
            <a:ext cx="1295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rite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7"/>
          <p:cNvSpPr/>
          <p:nvPr/>
        </p:nvSpPr>
        <p:spPr>
          <a:xfrm>
            <a:off x="2276640" y="4835520"/>
            <a:ext cx="129528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vid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8"/>
          <p:cNvSpPr/>
          <p:nvPr/>
        </p:nvSpPr>
        <p:spPr>
          <a:xfrm>
            <a:off x="1143000" y="1882800"/>
            <a:ext cx="1295280" cy="5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JUICIO EXPER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7 Rectángulo"/>
          <p:cNvSpPr/>
          <p:nvPr/>
        </p:nvSpPr>
        <p:spPr>
          <a:xfrm>
            <a:off x="785880" y="6068880"/>
            <a:ext cx="7929360" cy="64260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Times New Roman"/>
              </a:rPr>
              <a:t>Referencia: Tobón, S. (2006). Competencias, calidad y educación superior. Magiste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1 Proceso alternativo"/>
          <p:cNvSpPr/>
          <p:nvPr/>
        </p:nvSpPr>
        <p:spPr>
          <a:xfrm>
            <a:off x="1571760" y="2071800"/>
            <a:ext cx="6000480" cy="3143160"/>
          </a:xfrm>
          <a:prstGeom prst="flowChartAlternateProcess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2. ¿Cuáles son los principios esenciales en la evaluación de las competencia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1 Diagrama" descr=""/>
          <p:cNvPicPr/>
          <p:nvPr/>
        </p:nvPicPr>
        <p:blipFill>
          <a:blip r:embed="rId1"/>
          <a:stretch/>
        </p:blipFill>
        <p:spPr>
          <a:xfrm>
            <a:off x="-1865160" y="324000"/>
            <a:ext cx="12661920" cy="63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1 Proceso alternativo"/>
          <p:cNvSpPr/>
          <p:nvPr/>
        </p:nvSpPr>
        <p:spPr>
          <a:xfrm>
            <a:off x="1571760" y="2071800"/>
            <a:ext cx="6000480" cy="3143160"/>
          </a:xfrm>
          <a:prstGeom prst="flowChartAlternateProcess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3. ¿Cuáles son los ámbitos esenciales de la evaluación de las competencia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1T16:52:59Z</dcterms:created>
  <dc:creator>Dr. Sergio Tobón</dc:creator>
  <dc:description>A lo largo de 10 años, Servicios Educativos Anáhuac, ha contribuido a impulsar la educación pública y privada en México, persiguiendo durante ese tiempo el incremento permanente de la calidad de la educación básica, a través de programas de innovación y vanguardia educativa.</dc:description>
  <cp:keywords>Evaluación por Competencias</cp:keywords>
  <dc:language>en-US</dc:language>
  <cp:lastModifiedBy>User</cp:lastModifiedBy>
  <cp:lastPrinted>2002-08-27T11:53:41Z</cp:lastPrinted>
  <dcterms:modified xsi:type="dcterms:W3CDTF">2009-02-25T05:32:00Z</dcterms:modified>
  <cp:revision>2127</cp:revision>
  <dc:subject>Congreso Internacional</dc:subject>
  <dc:title>Evaluación por Competencias</dc:title>
</cp:coreProperties>
</file>